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xls" ContentType="application/vnd.ms-excel"/>
  <Override PartName="/ppt/embeddings/oleObject1.bin" ContentType="application/vnd.openxmlformats-officedocument.oleObject"/>
  <Override PartName="/ppt/charts/_rels/chart1.xml.rels" ContentType="application/vnd.openxmlformats-package.relationships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drawings/drawing1.xml" ContentType="application/vnd.openxmlformats-officedocument.drawingml.chartshape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presProps" Target="presProps.xml"/>
</Relationships>
</file>

<file path=ppt/charts/_rels/chart1.xml.rels><?xml version="1.0" encoding="UTF-8"?>
<Relationships xmlns="http://schemas.openxmlformats.org/package/2006/relationships"><Relationship Id="rId1" Type="http://schemas.openxmlformats.org/officeDocument/2006/relationships/chartUserShapes" Target="../drawings/drawing1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Males</c:v>
                </c:pt>
              </c:strCache>
            </c:strRef>
          </c:tx>
          <c:spPr>
            <a:solidFill>
              <a:srgbClr val="4f81bd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8"/>
                <c:pt idx="0">
                  <c:v>2-3</c:v>
                </c:pt>
                <c:pt idx="1">
                  <c:v>4-8</c:v>
                </c:pt>
                <c:pt idx="2">
                  <c:v>9-13</c:v>
                </c:pt>
                <c:pt idx="3">
                  <c:v>14-18</c:v>
                </c:pt>
                <c:pt idx="4">
                  <c:v>19-30</c:v>
                </c:pt>
                <c:pt idx="5">
                  <c:v>31-50</c:v>
                </c:pt>
                <c:pt idx="6">
                  <c:v>51-70</c:v>
                </c:pt>
                <c:pt idx="7">
                  <c:v>71+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8"/>
                <c:pt idx="0">
                  <c:v>2223</c:v>
                </c:pt>
                <c:pt idx="1">
                  <c:v>2840</c:v>
                </c:pt>
                <c:pt idx="2">
                  <c:v>3432</c:v>
                </c:pt>
                <c:pt idx="3">
                  <c:v>4479</c:v>
                </c:pt>
                <c:pt idx="4">
                  <c:v>4524</c:v>
                </c:pt>
                <c:pt idx="5">
                  <c:v>4495</c:v>
                </c:pt>
                <c:pt idx="6">
                  <c:v>3848</c:v>
                </c:pt>
                <c:pt idx="7">
                  <c:v>3108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Females</c:v>
                </c:pt>
              </c:strCache>
            </c:strRef>
          </c:tx>
          <c:spPr>
            <a:solidFill>
              <a:srgbClr val="c0504d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8"/>
                <c:pt idx="0">
                  <c:v>2-3</c:v>
                </c:pt>
                <c:pt idx="1">
                  <c:v>4-8</c:v>
                </c:pt>
                <c:pt idx="2">
                  <c:v>9-13</c:v>
                </c:pt>
                <c:pt idx="3">
                  <c:v>14-18</c:v>
                </c:pt>
                <c:pt idx="4">
                  <c:v>19-30</c:v>
                </c:pt>
                <c:pt idx="5">
                  <c:v>31-50</c:v>
                </c:pt>
                <c:pt idx="6">
                  <c:v>51-70</c:v>
                </c:pt>
                <c:pt idx="7">
                  <c:v>71+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8"/>
                <c:pt idx="0">
                  <c:v>2058</c:v>
                </c:pt>
                <c:pt idx="1">
                  <c:v>2559</c:v>
                </c:pt>
                <c:pt idx="2">
                  <c:v>3007</c:v>
                </c:pt>
                <c:pt idx="3">
                  <c:v>3028</c:v>
                </c:pt>
                <c:pt idx="4">
                  <c:v>3124</c:v>
                </c:pt>
                <c:pt idx="5">
                  <c:v>3099</c:v>
                </c:pt>
                <c:pt idx="6">
                  <c:v>2814</c:v>
                </c:pt>
                <c:pt idx="7">
                  <c:v>3276</c:v>
                </c:pt>
              </c:numCache>
            </c:numRef>
          </c:val>
        </c:ser>
        <c:gapWidth val="150"/>
        <c:overlap val="0"/>
        <c:axId val="51019213"/>
        <c:axId val="40192654"/>
      </c:barChart>
      <c:catAx>
        <c:axId val="51019213"/>
        <c:scaling>
          <c:orientation val="minMax"/>
        </c:scaling>
        <c:delete val="0"/>
        <c:axPos val="b"/>
        <c:title>
          <c:tx>
            <c:rich>
              <a:bodyPr rot="0"/>
              <a:lstStyle/>
              <a:p>
                <a:pPr>
                  <a:defRPr b="1" lang="en-US" sz="1800" spc="-1" strike="noStrike">
                    <a:solidFill>
                      <a:srgbClr val="000000"/>
                    </a:solidFill>
                    <a:latin typeface="Calibri"/>
                  </a:defRPr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Age (years)</a:t>
                </a:r>
              </a:p>
            </c:rich>
          </c:tx>
          <c:overlay val="0"/>
          <c:spPr>
            <a:noFill/>
            <a:ln w="0">
              <a:noFill/>
            </a:ln>
          </c:spPr>
        </c:title>
        <c:numFmt formatCode="[$-409]mm/dd/yyyy" sourceLinked="1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0192654"/>
        <c:crosses val="autoZero"/>
        <c:auto val="1"/>
        <c:lblAlgn val="ctr"/>
        <c:lblOffset val="100"/>
        <c:noMultiLvlLbl val="0"/>
      </c:catAx>
      <c:valAx>
        <c:axId val="40192654"/>
        <c:scaling>
          <c:orientation val="minMax"/>
        </c:scaling>
        <c:delete val="0"/>
        <c:axPos val="l"/>
        <c:title>
          <c:tx>
            <c:rich>
              <a:bodyPr rot="-5400000"/>
              <a:lstStyle/>
              <a:p>
                <a:pPr>
                  <a:defRPr b="1" lang="en-US" sz="1800" spc="-1" strike="noStrike">
                    <a:solidFill>
                      <a:srgbClr val="000000"/>
                    </a:solidFill>
                    <a:latin typeface="Calibri"/>
                  </a:defRPr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Milligrams per day</a:t>
                </a:r>
              </a:p>
            </c:rich>
          </c:tx>
          <c:layout>
            <c:manualLayout>
              <c:xMode val="edge"/>
              <c:yMode val="edge"/>
              <c:x val="0.0159806096458796"/>
              <c:y val="0.225529276286651"/>
            </c:manualLayout>
          </c:layout>
          <c:overlay val="0"/>
          <c:spPr>
            <a:noFill/>
            <a:ln w="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1019213"/>
        <c:crosses val="autoZero"/>
        <c:crossBetween val="between"/>
        <c:majorUnit val="1000"/>
      </c:valAx>
      <c:spPr>
        <a:noFill/>
        <a:ln w="0">
          <a:noFill/>
        </a:ln>
      </c:spPr>
    </c:plotArea>
    <c:legend>
      <c:legendPos val="r"/>
      <c:layout>
        <c:manualLayout>
          <c:xMode val="edge"/>
          <c:yMode val="edge"/>
          <c:x val="0.744027961851303"/>
          <c:y val="0.05653469488189"/>
          <c:w val="0.153661807125594"/>
          <c:h val="0.161930610236221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800" spc="-1" strike="noStrike">
              <a:solidFill>
                <a:srgbClr val="000000"/>
              </a:solidFill>
              <a:latin typeface="Calibri"/>
            </a:defRPr>
          </a:pPr>
        </a:p>
      </c:txPr>
    </c:legend>
    <c:plotVisOnly val="1"/>
    <c:dispBlanksAs val="gap"/>
  </c:chart>
  <c:spPr>
    <a:noFill/>
    <a:ln w="0">
      <a:noFill/>
    </a:ln>
  </c:spPr>
  <c:userShapes r:id="rId1"/>
</c:chartSpace>
</file>

<file path=ppt/drawings/drawing1.xml><?xml version="1.0" encoding="utf-8"?>
<c:userShapes xmlns:cdr="http://schemas.openxmlformats.org/drawingml/2006/chartDrawing" xmlns:a="http://schemas.openxmlformats.org/drawingml/2006/main" xmlns:c="http://schemas.openxmlformats.org/drawingml/2006/chart" xmlns:r="http://schemas.openxmlformats.org/officeDocument/2006/relationships">
  <cdr:relSizeAnchor>
    <cdr:from>
      <cdr:x>0.843439322980856</cdr:x>
      <cdr:y>0.356187439100009</cdr:y>
    </cdr:from>
    <cdr:to>
      <cdr:x>0.999917837482541</cdr:x>
      <cdr:y>0.44857826202498</cdr:y>
    </cdr:to>
    <cdr:sp>
      <cdr:nvSpPr>
        <cdr:cNvPr id="256" name="Text Box 6"/>
        <cdr:cNvSpPr/>
      </cdr:nvSpPr>
      <cdr:spPr>
        <a:xfrm>
          <a:off x="7391160" y="1447560"/>
          <a:ext cx="1371240" cy="375480"/>
        </a:xfrm>
        <a:prstGeom prst="rect">
          <a:avLst/>
        </a:prstGeom>
        <a:noFill/>
        <a:ln w="9525">
          <a:noFill/>
        </a:ln>
      </cdr:spPr>
      <cdr:style>
        <a:lnRef idx="0"/>
        <a:fillRef idx="0"/>
        <a:effectRef idx="0"/>
        <a:fontRef idx="minor"/>
      </cdr:style>
      <cdr:txBody>
        <a:bodyPr lIns="90000" rIns="90000" tIns="45000" bIns="45000" anchor="t">
          <a:spAutoFit/>
        </a:bodyPr>
        <a:p>
          <a:pPr>
            <a:lnSpc>
              <a:spcPct val="100000"/>
            </a:lnSpc>
          </a:pPr>
          <a:r>
            <a:rPr b="0" lang="en-US" sz="2000" spc="-1" strike="noStrike">
              <a:solidFill>
                <a:srgbClr val="000000"/>
              </a:solidFill>
              <a:latin typeface="Arial"/>
            </a:rPr>
            <a:t>2300 mg</a:t>
          </a:r>
          <a:r>
            <a:rPr b="0" lang="en-US" sz="2000" spc="-1" strike="noStrike" baseline="30000">
              <a:solidFill>
                <a:srgbClr val="000000"/>
              </a:solidFill>
              <a:latin typeface="Arial"/>
            </a:rPr>
            <a:t>+</a:t>
          </a:r>
          <a:endParaRPr b="0" sz="2000" spc="-1" strike="noStrike">
            <a:solidFill>
              <a:srgbClr val="000000"/>
            </a:solidFill>
            <a:latin typeface="Times New Roman"/>
          </a:endParaRPr>
        </a:p>
      </cdr:txBody>
    </cdr:sp>
  </cdr:relSizeAnchor>
  <cdr:relSizeAnchor>
    <cdr:from>
      <cdr:x>0.841549585079287</cdr:x>
      <cdr:y>0.487465674550447</cdr:y>
    </cdr:from>
    <cdr:to>
      <cdr:x>0.999917837482541</cdr:x>
      <cdr:y>0.579856497475419</cdr:y>
    </cdr:to>
    <cdr:sp>
      <cdr:nvSpPr>
        <cdr:cNvPr id="257" name="Text Box 6"/>
        <cdr:cNvSpPr/>
      </cdr:nvSpPr>
      <cdr:spPr>
        <a:xfrm>
          <a:off x="7374600" y="1981080"/>
          <a:ext cx="1387800" cy="375480"/>
        </a:xfrm>
        <a:prstGeom prst="rect">
          <a:avLst/>
        </a:prstGeom>
        <a:noFill/>
        <a:ln w="9525">
          <a:noFill/>
        </a:ln>
      </cdr:spPr>
      <cdr:style>
        <a:lnRef idx="0"/>
        <a:fillRef idx="0"/>
        <a:effectRef idx="0"/>
        <a:fontRef idx="minor"/>
      </cdr:style>
      <cdr:txBody>
        <a:bodyPr lIns="90000" rIns="90000" tIns="45000" bIns="45000" anchor="t">
          <a:spAutoFit/>
        </a:bodyPr>
        <a:p>
          <a:pPr>
            <a:lnSpc>
              <a:spcPct val="100000"/>
            </a:lnSpc>
            <a:tabLst>
              <a:tab algn="l" pos="0"/>
            </a:tabLst>
          </a:pPr>
          <a:r>
            <a:rPr b="0" lang="en-US" sz="2000" spc="-1" strike="noStrike">
              <a:solidFill>
                <a:srgbClr val="000000"/>
              </a:solidFill>
              <a:latin typeface="Arial"/>
            </a:rPr>
            <a:t>1500 mg</a:t>
          </a:r>
          <a:r>
            <a:rPr b="0" lang="en-US" sz="2000" spc="-1" strike="noStrike" baseline="30000">
              <a:solidFill>
                <a:srgbClr val="000000"/>
              </a:solidFill>
              <a:latin typeface="Arial"/>
            </a:rPr>
            <a:t>++</a:t>
          </a:r>
          <a:endParaRPr b="0" sz="2000" spc="-1" strike="noStrike">
            <a:solidFill>
              <a:srgbClr val="000000"/>
            </a:solidFill>
            <a:latin typeface="Times New Roman"/>
          </a:endParaRPr>
        </a:p>
      </cdr:txBody>
    </cdr:sp>
  </cdr:relSizeAnchor>
  <cdr:relSizeAnchor>
    <cdr:from>
      <cdr:x>0.139101142058993</cdr:x>
      <cdr:y>0.412436885463726</cdr:y>
    </cdr:from>
    <cdr:to>
      <cdr:x>0.834730096130146</cdr:x>
      <cdr:y>0.412436885463726</cdr:y>
    </cdr:to>
    <cdr:cxnSp>
      <cdr:nvCxnSpPr>
        <cdr:cNvPr id="258" name="Straight Connector 13"/>
        <cdr:cNvCxnSpPr/>
        <cdr:nvPr/>
      </cdr:nvCxnSpPr>
      <cdr:spPr>
        <a:xfrm>
          <a:off x="1218960" y="1676160"/>
          <a:ext cx="6096240" cy="360"/>
        </a:xfrm>
        <a:prstGeom prst="straightConnector1">
          <a:avLst/>
        </a:prstGeom>
        <a:ln w="25400">
          <a:solidFill>
            <a:srgbClr val="000000"/>
          </a:solidFill>
          <a:round/>
        </a:ln>
      </cdr:spPr>
    </cdr:cxnSp>
  </cdr:relSizeAnchor>
  <cdr:relSizeAnchor>
    <cdr:from>
      <cdr:x>0.139101142058993</cdr:x>
      <cdr:y>0.731154220923022</cdr:y>
    </cdr:from>
    <cdr:to>
      <cdr:x>0.834730096130146</cdr:x>
      <cdr:y>0.731154220923022</cdr:y>
    </cdr:to>
    <cdr:cxnSp>
      <cdr:nvCxnSpPr>
        <cdr:cNvPr id="259" name="Straight Connector 14"/>
        <cdr:cNvCxnSpPr/>
        <cdr:nvPr/>
      </cdr:nvCxnSpPr>
      <cdr:spPr>
        <a:xfrm>
          <a:off x="1218960" y="2971440"/>
          <a:ext cx="6096240" cy="360"/>
        </a:xfrm>
        <a:prstGeom prst="straightConnector1">
          <a:avLst/>
        </a:prstGeom>
        <a:ln w="25400">
          <a:solidFill>
            <a:srgbClr val="000000"/>
          </a:solidFill>
          <a:round/>
        </a:ln>
      </cdr:spPr>
    </cdr:cxnSp>
  </cdr:relSizeAnchor>
  <cdr:relSizeAnchor>
    <cdr:from>
      <cdr:x>0.843439322980856</cdr:x>
      <cdr:y>0.674904774559306</cdr:y>
    </cdr:from>
    <cdr:to>
      <cdr:x>0.999917837482541</cdr:x>
      <cdr:y>0.767295597484277</cdr:y>
    </cdr:to>
    <cdr:sp>
      <cdr:nvSpPr>
        <cdr:cNvPr id="260" name="Text Box 6"/>
        <cdr:cNvSpPr/>
      </cdr:nvSpPr>
      <cdr:spPr>
        <a:xfrm>
          <a:off x="7391160" y="2742840"/>
          <a:ext cx="1371240" cy="375480"/>
        </a:xfrm>
        <a:prstGeom prst="rect">
          <a:avLst/>
        </a:prstGeom>
        <a:noFill/>
        <a:ln w="9525">
          <a:noFill/>
        </a:ln>
      </cdr:spPr>
      <cdr:style>
        <a:lnRef idx="0"/>
        <a:fillRef idx="0"/>
        <a:effectRef idx="0"/>
        <a:fontRef idx="minor"/>
      </cdr:style>
      <cdr:txBody>
        <a:bodyPr lIns="90000" rIns="90000" tIns="45000" bIns="45000" anchor="t">
          <a:spAutoFit/>
        </a:bodyPr>
        <a:p>
          <a:pPr>
            <a:lnSpc>
              <a:spcPct val="100000"/>
            </a:lnSpc>
            <a:tabLst>
              <a:tab algn="l" pos="0"/>
            </a:tabLst>
          </a:pPr>
          <a:r>
            <a:rPr b="0" lang="en-US" sz="2000" spc="-1" strike="noStrike">
              <a:solidFill>
                <a:srgbClr val="000000"/>
              </a:solidFill>
              <a:latin typeface="Arial"/>
            </a:rPr>
            <a:t>200 mg</a:t>
          </a:r>
          <a:r>
            <a:rPr b="0" lang="en-US" sz="2000" spc="-1" strike="noStrike" baseline="30000">
              <a:solidFill>
                <a:srgbClr val="000000"/>
              </a:solidFill>
              <a:latin typeface="Arial"/>
            </a:rPr>
            <a:t>+++</a:t>
          </a:r>
          <a:endParaRPr b="0" sz="2000" spc="-1" strike="noStrike">
            <a:solidFill>
              <a:srgbClr val="000000"/>
            </a:solidFill>
            <a:latin typeface="Times New Roman"/>
          </a:endParaRPr>
        </a:p>
      </cdr:txBody>
    </cdr:sp>
  </cdr:relSizeAnchor>
</c:userShape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40B9C67-2F12-4858-B8BE-E8795DAAA9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23B3CB1-C655-4D86-A8F6-348C1EBC3EF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C24E8B1-280E-4DA6-97BF-9B417ACF5B11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24B4DB7-FA92-4257-A8DB-B19DD3D67938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5630183-2DF0-4A09-970C-DBE84A7C0507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High Blood Pressure Education: focus on broad reaching education programs targeted to the general public, patients, and professio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7A39092-EF40-4706-B4A8-01D04AC5C36F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S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Num" idx="2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C289B2E-F91A-4DB0-B5A4-55ABFAE4AE0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Num" idx="2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300A6E6-AC0D-495F-9A3C-792D305ACF35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sldNum" idx="2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93003E7-05A8-4485-A2B6-75213A01C125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sldNum" idx="2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10CF565-04D5-4720-B43D-3A9B0ED5C014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Num" idx="3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811F079-71E9-42E4-AC5B-B4CBFC44506A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6E730BE-6A7F-4290-99A1-612685D09288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2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sldNum" idx="3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9EF5B8B-774D-40CF-8AFD-3A8DAABA3AF8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sldNum" idx="3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A8AD4F0-C00A-4BB8-B93C-6FA8BFA0C1D8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Num" idx="3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348C173-99C5-4D75-A1CB-49E86919EB70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sldNum" idx="3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1F8B686-B2ED-436E-B46B-A537FB74C39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Geneva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F7065D6-D22F-467E-A163-832AAEDEFAAC}" type="slidenum">
              <a:rPr b="0" lang="en-US" sz="1200" spc="-1" strike="noStrike">
                <a:solidFill>
                  <a:srgbClr val="000000"/>
                </a:solidFill>
                <a:latin typeface="Geneva"/>
                <a:ea typeface="+mn-ea"/>
              </a:rPr>
              <a:t>2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89D0A71-6FC6-4C2D-A370-2F64A00AB2F8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4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th Karelia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71DAC43-A97B-43DF-986F-DC42E6457771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90093D3-5AA3-48FC-8D3A-EEC3B9A0C52F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150BBF5-B99E-4B30-8C0D-E1F5A43F0A4C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ly specific to the U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A0E5935-4ECC-424F-B480-6292076C7CF6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F41676D-8D47-4058-998F-CBA6DCB878F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FFC2-AF49-4A9B-B047-1464D5AB8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02F2-7640-4EEF-82A2-95E9EEE61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5FC8-8554-47EE-BFB0-C55D17BEA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6F76-5AE0-4558-85B6-5A41B96AE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3507B-762B-4B4E-9E44-D68CAB971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02571-F36A-4425-ABA6-BF8A167DF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F356D-0958-48F9-928B-7CE0ADD1A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3E12D-F4DC-45D0-98E3-730589484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DB17F-6BDE-4A97-B2E9-CCF58EEB0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832A8-56C2-4A20-AFA4-E1A5FDA70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C11DA-83CA-4C55-BAF6-AB8146BB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F4AD-8525-419A-9D9E-6DE9EE167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03022-35A8-481A-B513-97C8335A4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2D89C-0354-4208-B0D7-23492E7D1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D304F-41E7-4494-8082-166410DE1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FCA1C-A277-4DF8-9E36-1D6A9A76E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BBF0C-809A-46EE-90E6-9D9A2D1C2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A256E-9AD1-4D1E-9C3D-EC8A7B46A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A8002-F7B8-46DD-9FB5-09BDA8437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E3C58-20DC-4A4A-84BC-5B09C8006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28DC2-2F67-428A-A3E6-E8D684BCD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29347-4EC0-44A6-B71B-B6A2D3329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468F-9843-47CE-BD4F-825FC9BF5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32FAB-FF8B-4535-B997-CEC79EE9C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36C7A-E5F7-4B6F-8BCF-A863F848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4D81A-238E-4DDC-A7C5-3C4BA42C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6C08B-E882-42CD-8E99-05BF05C6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ED730-BE7E-41A3-AC32-2459B131A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02847-5B4C-4683-97B1-771A225A3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D5B41-7A72-4E95-BD29-C21384181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8677-94DF-4B5E-A700-C90E2AD76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6FE5-8401-4421-9526-AA8C78F29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AD02-CF18-4ACE-BD3F-055E0C8A5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7F63-78DA-4BD4-9346-A3E228313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03EE-D680-4FC4-99DB-FFA94AEC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346E-C7C2-446E-9814-BC4A8D5C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588C202-41F2-4E67-98D6-723003B229F1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917D03D-407B-4C20-AA1E-817DD8A6BC58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DAF8658-0A16-4FFF-9CBD-4BCB08EEF662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84240" y="609480"/>
            <a:ext cx="71751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84240" y="1981080"/>
            <a:ext cx="7175160" cy="41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84240" y="609480"/>
            <a:ext cx="71751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84240" y="1981080"/>
            <a:ext cx="7175160" cy="41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xls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dium reduction and health poli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apted fro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el LJ, Angell SY, Cobb LK, et al. Population-wide sodium reduction: the bumpy road from evidence to policy.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nn Epidemiol. Jun;22(6):417-42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kehold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5680" indent="-3556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ver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70760" indent="-2962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der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85840" indent="-2368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tional Heart, Lung, and Blood Institute (NHLBI) at NI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85840" indent="-2368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85840" indent="-2368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HH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85840" indent="-2368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D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70760" indent="-2962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te and Loc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70760" indent="-2962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fforts focus on two ar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85840" indent="-2368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umer edu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85840" indent="-2368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nging the climate of consumer cho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kehold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ercial Intere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480" indent="-2653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National Restaurant Association, the Grocery Manufacturers Association, the Chamber of Commerce, the Salt Institu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480" indent="-2653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resent a wide spectrum of industries that manufacture, prepare, and sell fo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480" indent="-2653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arious positions toward sodium reduction, from complete opposition to voluntary particip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her Interest Grou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480" indent="-2653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ti-sodium reduction: the Center for Consumer Freed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480" indent="-2653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-sodium reduction: World Action on Salt and Health (WASH), the Center for Science in the Public Interest (CSP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st Eff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major approach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umer Education and Individual Behavior Cha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nging the Context of Consumer Decision Ma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fforts are mainly government 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White House Conference of Food and Nutrition in 1969 marked the start of U.S. sodium reduction effor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sumer Education Eff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72: NHLBI launches the National High Blood Pressure Education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80: U.S. Dietary Guidelines for Americans recommends against excess sodium inta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81: FDA launches a public education initiative and encourages manufacturers to list sodium content information on packa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luntary Efforts to Chang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sumer Contex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6171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80: DHHS set national objective to decrease sodium in processed foods 20% by 199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000s: APHA and AMA appeal to food industry to reduce sodium 50% in 20 ye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008: the National Salt Reduction Initiative launches, focusing on voluntary commitments from industr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ight Brace 4"/>
          <p:cNvSpPr/>
          <p:nvPr/>
        </p:nvSpPr>
        <p:spPr>
          <a:xfrm>
            <a:off x="6248520" y="1447920"/>
            <a:ext cx="685440" cy="2666520"/>
          </a:xfrm>
          <a:prstGeom prst="rightBrace">
            <a:avLst>
              <a:gd name="adj1" fmla="val 8333"/>
              <a:gd name="adj2" fmla="val 50000"/>
            </a:avLst>
          </a:prstGeom>
          <a:noFill/>
          <a:ln>
            <a:solidFill>
              <a:srgbClr val="4a7ebb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TextBox 5"/>
          <p:cNvSpPr/>
          <p:nvPr/>
        </p:nvSpPr>
        <p:spPr>
          <a:xfrm>
            <a:off x="7010280" y="1600200"/>
            <a:ext cx="21333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 monitoring, accountability, or evaluation plans were included with these effo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ight Brace 8"/>
          <p:cNvSpPr/>
          <p:nvPr/>
        </p:nvSpPr>
        <p:spPr>
          <a:xfrm>
            <a:off x="6248520" y="4191120"/>
            <a:ext cx="685440" cy="1752120"/>
          </a:xfrm>
          <a:prstGeom prst="rightBrace">
            <a:avLst>
              <a:gd name="adj1" fmla="val 8333"/>
              <a:gd name="adj2" fmla="val 50000"/>
            </a:avLst>
          </a:prstGeom>
          <a:noFill/>
          <a:ln>
            <a:solidFill>
              <a:srgbClr val="4a7ebb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Box 9"/>
          <p:cNvSpPr/>
          <p:nvPr/>
        </p:nvSpPr>
        <p:spPr>
          <a:xfrm>
            <a:off x="7010280" y="4267080"/>
            <a:ext cx="213336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SRI is emphasizing monitoring and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ndatory Efforts to Change Consumer Contex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306360" indent="-3063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93: FDA included sodium on the list of nutrients mandatory on packaged food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6360" indent="-3063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95: USDA set sodium content standards for food available in public schoo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6360" indent="-3063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ilar policy restrictions exist at all levels of government, as well as in private institutions such as hospitals and workpla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6360" indent="-3063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010: IOM issues report recommending regulatory appro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6360" indent="-3063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011: FDA issued a public request for information concerning removing sodium from the GRAS list (Generally Regarded as Saf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129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K Salt Campaign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76120" y="1433520"/>
            <a:ext cx="8486280" cy="48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33280" indent="-233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318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al: Reduce salt intake by 1/3 from 2005 to 20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34596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231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re than 50 commitments from all sectors of the food industr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34596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23184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Gradual reductions across product categor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08576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lnSpc>
                <a:spcPct val="100000"/>
              </a:lnSpc>
              <a:spcBef>
                <a:spcPts val="839"/>
              </a:spcBef>
              <a:buClr>
                <a:srgbClr val="000000"/>
              </a:buClr>
              <a:buFont typeface="Arial"/>
              <a:buChar char="•"/>
              <a:tabLst>
                <a:tab algn="l" pos="2318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duct salt reductions achiev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34596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231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inz: 32% to 58% ↓ in some canned produ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34596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231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stle: 25%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↓ in soup mixes and bouill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34596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231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ellogg’s: 50% ↓ in some cere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34596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231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raft: 30% ↓ in chee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08576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lnSpc>
                <a:spcPct val="10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•"/>
              <a:tabLst>
                <a:tab algn="l" pos="2318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pulation salt intake is encouraging: ~ 10%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0" y="6492960"/>
            <a:ext cx="7441920" cy="3639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K Food Standards Agency website. Accessed at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http://www.food.gov.uk/healthiereating/salt/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ummary Table of Salt reduction Commitments. Accessed at http://www.food.gov.uk/multimedia/pdfs/saltreductioninitiatives.pd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rriers to Policy Mak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position activities and argu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llenges to conducting high quality rese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dium intake is not a discrete activity (like smokin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is an intermediate between consumers and sodium: their fo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does not exist for smoking, alcohol, et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852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position Activ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2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466560" indent="-4665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tarSymbol"/>
              <a:buAutoNum type="arabicParenR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l for more research, particularly research that can never be d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66560" indent="-4665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tarSymbol"/>
              <a:buAutoNum type="arabicParenR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cus on susceptible subgrou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66560" indent="-4665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tarSymbol"/>
              <a:buAutoNum type="arabicParenR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redit scientists who receive funding from governm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66560" indent="-4665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tarSymbol"/>
              <a:buAutoNum type="arabicParenR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theater at high profile mo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66560" indent="-4665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tarSymbol"/>
              <a:buAutoNum type="arabicParenR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voke tangential iss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82980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nny state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82980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rm from dehydration, iodine deficiency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380880" y="1905120"/>
            <a:ext cx="838152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 day-to-day variability within an individu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 ratio of intra-person/inter-person vari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derreporting of salt inta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omplete urine collections and dietary reca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ble salt not measu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et assessment complicated b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omplete food composition t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 variability within produ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asurement of Sodium Intake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Nasty Probl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Problem and The Evid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cess sodium intake has been convincingly linked to elevated blood pres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lood pressure related diseases are leading causes of morbidity and mortality in the United St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art Dise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o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d-Stage Renal Dise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852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ublished Liter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762588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tarSymbol"/>
              <a:buAutoNum type="arabicParenR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earch with flawed methods is commonly publish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tarSymbol"/>
              <a:buAutoNum type="arabicParenR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fficult for non-epidemiologists to critique public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tarSymbol"/>
              <a:buAutoNum type="arabicParenR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clear how to synthesize these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tarSymbol"/>
              <a:buAutoNum type="arabicParenR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flicting results from the same study (e.g. NHAN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tarSymbol"/>
              <a:buAutoNum type="arabicParenR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flicting meta-analy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pidemiologists have a crucial role in evaluating and synthesizing evid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idence-based medicine creates unrealistic expectations for evaluating prevention strateg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ltidisciplinary research is requi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deling, particularly cost-effectiveness analysis, often has a valuable role in policy-ma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stand the opposition, their arguments, and their influence on policy mak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is a need for continues rese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al training is extremely useful for epidemiologists who are interested in policy ma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icy making is not for the faint of he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6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jor Methodological Problems with Observational Studies that Relate Na Intake to CV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 error in sodium assess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atic error in sodium assess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nalytic issue, e.g. under-adjust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ential for residual confoun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ential for reverse caus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7"/>
          <p:cNvSpPr/>
          <p:nvPr/>
        </p:nvSpPr>
        <p:spPr>
          <a:xfrm>
            <a:off x="2971800" y="4572000"/>
            <a:ext cx="4419360" cy="363960"/>
          </a:xfrm>
          <a:prstGeom prst="rect">
            <a:avLst/>
          </a:prstGeom>
          <a:noFill/>
          <a:ln w="2857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,5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2,400          3,3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9"/>
          <p:cNvSpPr/>
          <p:nvPr/>
        </p:nvSpPr>
        <p:spPr>
          <a:xfrm>
            <a:off x="0" y="6400800"/>
            <a:ext cx="8838720" cy="3945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cks, NEJM 2001;344: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23"/>
          <p:cNvSpPr/>
          <p:nvPr/>
        </p:nvSpPr>
        <p:spPr>
          <a:xfrm flipV="1">
            <a:off x="0" y="1311120"/>
            <a:ext cx="9144000" cy="12600"/>
          </a:xfrm>
          <a:prstGeom prst="line">
            <a:avLst/>
          </a:prstGeom>
          <a:ln w="50800">
            <a:solidFill>
              <a:srgbClr val="33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Picture 24" descr="dashsodium4"/>
          <p:cNvPicPr/>
          <p:nvPr/>
        </p:nvPicPr>
        <p:blipFill>
          <a:blip r:embed="rId1"/>
          <a:stretch/>
        </p:blipFill>
        <p:spPr>
          <a:xfrm>
            <a:off x="290520" y="76320"/>
            <a:ext cx="1188720" cy="1242720"/>
          </a:xfrm>
          <a:prstGeom prst="rect">
            <a:avLst/>
          </a:prstGeom>
          <a:ln w="22225">
            <a:solidFill>
              <a:srgbClr val="33cccc"/>
            </a:solidFill>
            <a:miter/>
          </a:ln>
        </p:spPr>
      </p:pic>
      <p:sp>
        <p:nvSpPr>
          <p:cNvPr id="213" name="Rectangle 2"/>
          <p:cNvSpPr/>
          <p:nvPr/>
        </p:nvSpPr>
        <p:spPr>
          <a:xfrm>
            <a:off x="1752480" y="152280"/>
            <a:ext cx="716256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 Sodium Intake Is Reduce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 is Blood Press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oup 27"/>
          <p:cNvGrpSpPr/>
          <p:nvPr/>
        </p:nvGrpSpPr>
        <p:grpSpPr>
          <a:xfrm>
            <a:off x="490680" y="1219320"/>
            <a:ext cx="8652960" cy="5011920"/>
            <a:chOff x="490680" y="1219320"/>
            <a:chExt cx="8652960" cy="5011920"/>
          </a:xfrm>
        </p:grpSpPr>
        <p:grpSp>
          <p:nvGrpSpPr>
            <p:cNvPr id="215" name="Group 26"/>
            <p:cNvGrpSpPr/>
            <p:nvPr/>
          </p:nvGrpSpPr>
          <p:grpSpPr>
            <a:xfrm>
              <a:off x="490680" y="1219320"/>
              <a:ext cx="8652960" cy="5011920"/>
              <a:chOff x="490680" y="1219320"/>
              <a:chExt cx="8652960" cy="5011920"/>
            </a:xfrm>
          </p:grpSpPr>
          <p:sp>
            <p:nvSpPr>
              <p:cNvPr id="216" name="Text Box 4"/>
              <p:cNvSpPr/>
              <p:nvPr/>
            </p:nvSpPr>
            <p:spPr>
              <a:xfrm>
                <a:off x="490680" y="2482920"/>
                <a:ext cx="1156320" cy="91260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ystoli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Blood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ressu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Text Box 5"/>
              <p:cNvSpPr/>
              <p:nvPr/>
            </p:nvSpPr>
            <p:spPr>
              <a:xfrm>
                <a:off x="7062840" y="1447920"/>
                <a:ext cx="2054160" cy="42480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In Typical Diet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Text Box 6"/>
              <p:cNvSpPr/>
              <p:nvPr/>
            </p:nvSpPr>
            <p:spPr>
              <a:xfrm>
                <a:off x="7230600" y="4343400"/>
                <a:ext cx="1901520" cy="42480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In DASH Diet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Text Box 8"/>
              <p:cNvSpPr/>
              <p:nvPr/>
            </p:nvSpPr>
            <p:spPr>
              <a:xfrm>
                <a:off x="2209680" y="5867280"/>
                <a:ext cx="6933960" cy="363960"/>
              </a:xfrm>
              <a:prstGeom prst="rect">
                <a:avLst/>
              </a:prstGeom>
              <a:noFill/>
              <a:ln w="2857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        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odium Level: mg/d per da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Text Box 17"/>
              <p:cNvSpPr/>
              <p:nvPr/>
            </p:nvSpPr>
            <p:spPr>
              <a:xfrm>
                <a:off x="7786080" y="1981080"/>
                <a:ext cx="1122840" cy="821160"/>
              </a:xfrm>
              <a:prstGeom prst="rect">
                <a:avLst/>
              </a:prstGeom>
              <a:noFill/>
              <a:ln w="28575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-6.7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&lt;.00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Text Box 18"/>
              <p:cNvSpPr/>
              <p:nvPr/>
            </p:nvSpPr>
            <p:spPr>
              <a:xfrm>
                <a:off x="7786440" y="3352680"/>
                <a:ext cx="1136520" cy="821160"/>
              </a:xfrm>
              <a:prstGeom prst="rect">
                <a:avLst/>
              </a:prstGeom>
              <a:noFill/>
              <a:ln w="28575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-3.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&lt;.00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222" name="Object 3"/>
              <p:cNvGraphicFramePr/>
              <p:nvPr/>
            </p:nvGraphicFramePr>
            <p:xfrm>
              <a:off x="1752480" y="1219320"/>
              <a:ext cx="6063840" cy="4346280"/>
            </p:xfrm>
            <a:graphic>
              <a:graphicData uri="http://schemas.openxmlformats.org/presentationml/2006/ole">
                <p:oleObj progId="Excel.Sheet.8" r:id="rId2" spid="">
                  <p:embed/>
                  <p:pic>
                    <p:nvPicPr>
                      <p:cNvPr id="223" name="Object 3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1752480" y="1219320"/>
                        <a:ext cx="6063840" cy="4346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24" name="TextBox 22"/>
              <p:cNvSpPr/>
              <p:nvPr/>
            </p:nvSpPr>
            <p:spPr>
              <a:xfrm>
                <a:off x="4191120" y="5486400"/>
                <a:ext cx="76176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1,5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TextBox 24"/>
              <p:cNvSpPr/>
              <p:nvPr/>
            </p:nvSpPr>
            <p:spPr>
              <a:xfrm>
                <a:off x="5638680" y="5486400"/>
                <a:ext cx="76176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2,4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TextBox 25"/>
              <p:cNvSpPr/>
              <p:nvPr/>
            </p:nvSpPr>
            <p:spPr>
              <a:xfrm>
                <a:off x="7238880" y="5486400"/>
                <a:ext cx="83772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3,3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" name="Line 9"/>
            <p:cNvSpPr/>
            <p:nvPr/>
          </p:nvSpPr>
          <p:spPr>
            <a:xfrm flipH="1">
              <a:off x="4724280" y="2895480"/>
              <a:ext cx="1143000" cy="914400"/>
            </a:xfrm>
            <a:prstGeom prst="line">
              <a:avLst/>
            </a:prstGeom>
            <a:ln w="50800">
              <a:solidFill>
                <a:srgbClr val="1f497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Line 11"/>
            <p:cNvSpPr/>
            <p:nvPr/>
          </p:nvSpPr>
          <p:spPr>
            <a:xfrm flipH="1">
              <a:off x="4724280" y="4114800"/>
              <a:ext cx="1143000" cy="304560"/>
            </a:xfrm>
            <a:prstGeom prst="line">
              <a:avLst/>
            </a:prstGeom>
            <a:ln w="50800">
              <a:solidFill>
                <a:srgbClr val="66ff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Line 13"/>
            <p:cNvSpPr/>
            <p:nvPr/>
          </p:nvSpPr>
          <p:spPr>
            <a:xfrm flipH="1">
              <a:off x="6181560" y="3733560"/>
              <a:ext cx="1285920" cy="271440"/>
            </a:xfrm>
            <a:prstGeom prst="line">
              <a:avLst/>
            </a:prstGeom>
            <a:ln w="50800">
              <a:solidFill>
                <a:srgbClr val="66ff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Line 15"/>
            <p:cNvSpPr/>
            <p:nvPr/>
          </p:nvSpPr>
          <p:spPr>
            <a:xfrm flipH="1">
              <a:off x="6172200" y="2361960"/>
              <a:ext cx="1295280" cy="381240"/>
            </a:xfrm>
            <a:prstGeom prst="line">
              <a:avLst/>
            </a:prstGeom>
            <a:ln w="50800">
              <a:solidFill>
                <a:srgbClr val="1f497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3"/>
          <p:cNvSpPr/>
          <p:nvPr/>
        </p:nvSpPr>
        <p:spPr>
          <a:xfrm>
            <a:off x="0" y="228600"/>
            <a:ext cx="914364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59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ke Mortality by Level of Usual Systolic BP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7" descr=""/>
          <p:cNvPicPr/>
          <p:nvPr/>
        </p:nvPicPr>
        <p:blipFill>
          <a:blip r:embed="rId1"/>
          <a:stretch/>
        </p:blipFill>
        <p:spPr>
          <a:xfrm>
            <a:off x="2286000" y="914400"/>
            <a:ext cx="4571640" cy="5181120"/>
          </a:xfrm>
          <a:prstGeom prst="rect">
            <a:avLst/>
          </a:prstGeom>
          <a:ln w="12700">
            <a:noFill/>
          </a:ln>
        </p:spPr>
      </p:pic>
      <p:sp>
        <p:nvSpPr>
          <p:cNvPr id="233" name="Text Box 8"/>
          <p:cNvSpPr/>
          <p:nvPr/>
        </p:nvSpPr>
        <p:spPr>
          <a:xfrm>
            <a:off x="609480" y="6248520"/>
            <a:ext cx="8534160" cy="63828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*Source: Prospective Studies Collaboration, Lancet, 2002: Meta-analysis of 61 prospective studies with 2.7m person-yrs, 11.9k death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4" name="Straight Connector 5"/>
          <p:cNvCxnSpPr/>
          <p:nvPr/>
        </p:nvCxnSpPr>
        <p:spPr>
          <a:xfrm flipV="1">
            <a:off x="4854240" y="1295280"/>
            <a:ext cx="22680" cy="3962520"/>
          </a:xfrm>
          <a:prstGeom prst="straightConnector1">
            <a:avLst/>
          </a:prstGeom>
          <a:ln w="38100">
            <a:solidFill>
              <a:srgbClr val="c0504d"/>
            </a:solidFill>
            <a:round/>
          </a:ln>
        </p:spPr>
      </p:cxnSp>
      <p:cxnSp>
        <p:nvCxnSpPr>
          <p:cNvPr id="235" name="Straight Arrow Connector 13"/>
          <p:cNvCxnSpPr/>
          <p:nvPr/>
        </p:nvCxnSpPr>
        <p:spPr>
          <a:xfrm flipH="1" flipV="1">
            <a:off x="4876560" y="4647960"/>
            <a:ext cx="686160" cy="153000"/>
          </a:xfrm>
          <a:prstGeom prst="straightConnector1">
            <a:avLst/>
          </a:prstGeom>
          <a:ln w="38100">
            <a:solidFill>
              <a:srgbClr val="c0504d"/>
            </a:solidFill>
            <a:round/>
            <a:tailEnd len="med" type="arrow" w="med"/>
          </a:ln>
        </p:spPr>
      </p:cxnSp>
      <p:sp>
        <p:nvSpPr>
          <p:cNvPr id="236" name="TextBox 18"/>
          <p:cNvSpPr/>
          <p:nvPr/>
        </p:nvSpPr>
        <p:spPr>
          <a:xfrm>
            <a:off x="5562720" y="4572000"/>
            <a:ext cx="1447560" cy="57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efinition of Hypert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5" descr=""/>
          <p:cNvPicPr/>
          <p:nvPr/>
        </p:nvPicPr>
        <p:blipFill>
          <a:blip r:embed="rId1"/>
          <a:stretch/>
        </p:blipFill>
        <p:spPr>
          <a:xfrm>
            <a:off x="3135240" y="2265480"/>
            <a:ext cx="2518920" cy="3598560"/>
          </a:xfrm>
          <a:prstGeom prst="rect">
            <a:avLst/>
          </a:prstGeom>
          <a:ln w="9525">
            <a:noFill/>
          </a:ln>
        </p:spPr>
      </p:pic>
      <p:pic>
        <p:nvPicPr>
          <p:cNvPr id="238" name="Picture 16" descr=""/>
          <p:cNvPicPr/>
          <p:nvPr/>
        </p:nvPicPr>
        <p:blipFill>
          <a:blip r:embed="rId2"/>
          <a:stretch/>
        </p:blipFill>
        <p:spPr>
          <a:xfrm>
            <a:off x="200160" y="2263680"/>
            <a:ext cx="2518920" cy="3598560"/>
          </a:xfrm>
          <a:prstGeom prst="rect">
            <a:avLst/>
          </a:prstGeom>
          <a:ln w="9525">
            <a:noFill/>
          </a:ln>
        </p:spPr>
      </p:pic>
      <p:pic>
        <p:nvPicPr>
          <p:cNvPr id="239" name="Picture 17" descr=""/>
          <p:cNvPicPr/>
          <p:nvPr/>
        </p:nvPicPr>
        <p:blipFill>
          <a:blip r:embed="rId3"/>
          <a:stretch/>
        </p:blipFill>
        <p:spPr>
          <a:xfrm>
            <a:off x="6056280" y="2263680"/>
            <a:ext cx="2871360" cy="3598560"/>
          </a:xfrm>
          <a:prstGeom prst="rect">
            <a:avLst/>
          </a:prstGeom>
          <a:ln w="9525">
            <a:noFill/>
          </a:ln>
        </p:spPr>
      </p:pic>
      <p:pic>
        <p:nvPicPr>
          <p:cNvPr id="240" name="Picture 18" descr=""/>
          <p:cNvPicPr/>
          <p:nvPr/>
        </p:nvPicPr>
        <p:blipFill>
          <a:blip r:embed="rId4"/>
          <a:stretch/>
        </p:blipFill>
        <p:spPr>
          <a:xfrm>
            <a:off x="8786880" y="4308480"/>
            <a:ext cx="140760" cy="847440"/>
          </a:xfrm>
          <a:prstGeom prst="rect">
            <a:avLst/>
          </a:prstGeom>
          <a:ln w="9525">
            <a:noFill/>
          </a:ln>
        </p:spPr>
      </p:pic>
      <p:sp>
        <p:nvSpPr>
          <p:cNvPr id="241" name="Rectangle 19"/>
          <p:cNvSpPr/>
          <p:nvPr/>
        </p:nvSpPr>
        <p:spPr>
          <a:xfrm>
            <a:off x="1048680" y="5909760"/>
            <a:ext cx="770760" cy="424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Ye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678960" y="1452240"/>
            <a:ext cx="1578600" cy="69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90000"/>
              </a:lnSpc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Salt intak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(g/da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380880" y="198360"/>
            <a:ext cx="8152920" cy="761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land: Salt Intake, BP and Strok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rtality Over Three Deca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22"/>
          <p:cNvSpPr/>
          <p:nvPr/>
        </p:nvSpPr>
        <p:spPr>
          <a:xfrm>
            <a:off x="3473280" y="1454040"/>
            <a:ext cx="1810080" cy="69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90000"/>
              </a:lnSpc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Diastolic B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(mmH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23"/>
          <p:cNvSpPr/>
          <p:nvPr/>
        </p:nvSpPr>
        <p:spPr>
          <a:xfrm>
            <a:off x="6400080" y="1452240"/>
            <a:ext cx="2307240" cy="69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90000"/>
              </a:lnSpc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Stroke mort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(1/10000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24"/>
          <p:cNvSpPr/>
          <p:nvPr/>
        </p:nvSpPr>
        <p:spPr>
          <a:xfrm>
            <a:off x="4050720" y="5909760"/>
            <a:ext cx="770760" cy="424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Ye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25"/>
          <p:cNvSpPr/>
          <p:nvPr/>
        </p:nvSpPr>
        <p:spPr>
          <a:xfrm>
            <a:off x="7148160" y="5909760"/>
            <a:ext cx="770760" cy="424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Ye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26"/>
          <p:cNvSpPr/>
          <p:nvPr/>
        </p:nvSpPr>
        <p:spPr>
          <a:xfrm>
            <a:off x="4823640" y="3469680"/>
            <a:ext cx="536040" cy="302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27"/>
          <p:cNvSpPr/>
          <p:nvPr/>
        </p:nvSpPr>
        <p:spPr>
          <a:xfrm>
            <a:off x="4353840" y="4762080"/>
            <a:ext cx="819720" cy="302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Wo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28"/>
          <p:cNvSpPr/>
          <p:nvPr/>
        </p:nvSpPr>
        <p:spPr>
          <a:xfrm>
            <a:off x="8079480" y="4014360"/>
            <a:ext cx="536040" cy="302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29"/>
          <p:cNvSpPr/>
          <p:nvPr/>
        </p:nvSpPr>
        <p:spPr>
          <a:xfrm>
            <a:off x="7520760" y="4941360"/>
            <a:ext cx="819720" cy="302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Wo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30"/>
          <p:cNvSpPr/>
          <p:nvPr/>
        </p:nvSpPr>
        <p:spPr>
          <a:xfrm>
            <a:off x="152280" y="6401880"/>
            <a:ext cx="4581000" cy="271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Karppanen &amp; Mervaala. Prog Cardiovasc Dis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6;49:59-7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69920" y="304920"/>
            <a:ext cx="861012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stimated Mean Daily Sodium Intake in US, by age/sex Group, 2005-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Rectangle 9"/>
          <p:cNvSpPr/>
          <p:nvPr/>
        </p:nvSpPr>
        <p:spPr>
          <a:xfrm>
            <a:off x="0" y="5791320"/>
            <a:ext cx="914364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+     Recommended upper limit of intake for ad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++   Recommended  intake for blacks, hypertensives, and middle- and older-aged ad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+++ Needed to replace obligatory losses (Dahl, 1958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Chart 10"/>
          <p:cNvGraphicFramePr/>
          <p:nvPr/>
        </p:nvGraphicFramePr>
        <p:xfrm>
          <a:off x="380880" y="1600200"/>
          <a:ext cx="8762760" cy="40636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cxnSp>
        <p:nvCxnSpPr>
          <p:cNvPr id="261" name="Straight Connector 6"/>
          <p:cNvCxnSpPr/>
          <p:nvPr/>
        </p:nvCxnSpPr>
        <p:spPr>
          <a:xfrm>
            <a:off x="1600200" y="3733560"/>
            <a:ext cx="6096240" cy="360"/>
          </a:xfrm>
          <a:prstGeom prst="straightConnector1">
            <a:avLst/>
          </a:prstGeom>
          <a:ln w="25400">
            <a:solidFill>
              <a:srgbClr val="000000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urces of Dietary Sodi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3" name="Group 9"/>
          <p:cNvGrpSpPr/>
          <p:nvPr/>
        </p:nvGrpSpPr>
        <p:grpSpPr>
          <a:xfrm>
            <a:off x="611280" y="1905120"/>
            <a:ext cx="8113320" cy="3809520"/>
            <a:chOff x="611280" y="1905120"/>
            <a:chExt cx="8113320" cy="3809520"/>
          </a:xfrm>
        </p:grpSpPr>
        <p:graphicFrame>
          <p:nvGraphicFramePr>
            <p:cNvPr id="264" name="Object 3"/>
            <p:cNvGraphicFramePr/>
            <p:nvPr/>
          </p:nvGraphicFramePr>
          <p:xfrm>
            <a:off x="654120" y="1905120"/>
            <a:ext cx="7578360" cy="3809520"/>
          </p:xfrm>
          <a:graphic>
            <a:graphicData uri="http://schemas.openxmlformats.org/presentationml/2006/ole">
              <p:oleObj progId="MSGraph.Chart.8" r:id="rId1" spid="">
                <p:embed/>
                <p:pic>
                  <p:nvPicPr>
                    <p:cNvPr id="265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54120" y="1905120"/>
                      <a:ext cx="7578360" cy="3809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6" name="Text Box 4"/>
            <p:cNvSpPr/>
            <p:nvPr/>
          </p:nvSpPr>
          <p:spPr>
            <a:xfrm>
              <a:off x="6352920" y="2286000"/>
              <a:ext cx="1017720" cy="6382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her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5"/>
            <p:cNvSpPr/>
            <p:nvPr/>
          </p:nvSpPr>
          <p:spPr>
            <a:xfrm>
              <a:off x="611280" y="3200400"/>
              <a:ext cx="1308960" cy="9126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o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cess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7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6"/>
            <p:cNvSpPr/>
            <p:nvPr/>
          </p:nvSpPr>
          <p:spPr>
            <a:xfrm>
              <a:off x="6591240" y="3581280"/>
              <a:ext cx="1827000" cy="6382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t the T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7"/>
            <p:cNvSpPr/>
            <p:nvPr/>
          </p:nvSpPr>
          <p:spPr>
            <a:xfrm>
              <a:off x="6362640" y="4495680"/>
              <a:ext cx="236196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uring Cooking 5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Text Box 8"/>
          <p:cNvSpPr/>
          <p:nvPr/>
        </p:nvSpPr>
        <p:spPr>
          <a:xfrm>
            <a:off x="304920" y="6172200"/>
            <a:ext cx="74671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ttes and Donnelly, JACN, 1991; 10: 38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0" y="1066680"/>
            <a:ext cx="9143640" cy="57708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59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62 adults who completed 7 day dietary recor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Stakehold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fessional Health-Related Organiz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ienti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ver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ercial Intere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her Interest Grou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ubl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kehold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7320" indent="-3373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fessional Health-Related Organiz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0800" indent="-2808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MA, APHA, American Heart Assoc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0800" indent="-2808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fforts include issuing guidelines and advocating for sodium red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0800" indent="-2808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dium is just one part of broader policy agend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ienti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0800" indent="-2808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vocate both sides of the sodium reduction iss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0800" indent="-2808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is challenging for non-scientists to evaluate the validity of arguments and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24280" indent="-2246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g. Policy makers, government officials, the general publ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  <Words>1266</Words>
  <Paragraphs>208</Paragraphs>
  <Company>Washington University in St. Louis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4T17:35:16Z</dcterms:created>
  <dc:creator>Wesley Gibbert</dc:creator>
  <dc:description/>
  <dc:language>en-US</dc:language>
  <cp:lastModifiedBy>Peter Kralka</cp:lastModifiedBy>
  <dcterms:modified xsi:type="dcterms:W3CDTF">2013-03-14T14:36:20Z</dcterms:modified>
  <cp:revision>58</cp:revision>
  <dc:subject/>
  <dc:title>Salt Case Stu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3</vt:r8>
  </property>
  <property fmtid="{D5CDD505-2E9C-101B-9397-08002B2CF9AE}" pid="3" name="PresentationFormat">
    <vt:lpwstr>On-screen Show (4:3)</vt:lpwstr>
  </property>
  <property fmtid="{D5CDD505-2E9C-101B-9397-08002B2CF9AE}" pid="4" name="Slides">
    <vt:r8>23</vt:r8>
  </property>
</Properties>
</file>