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ACD486-D8BB-46FF-A6F5-B37141943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D385E7-4170-4899-AFC9-6B6A1E6DC42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7AA7A0-F058-45DF-A695-54BB89830FF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0A539A-26FF-461D-95ED-328B9C3491E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31F989-EF94-43E2-8745-92ACFFB952F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BCB7D6-F904-431B-94E8-D275FC21F00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131ED0-681D-4706-8BCD-323DDB464D9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E80048-0807-4C00-AB41-4E743B55111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9DF4A1-5925-460B-AFA1-DE0CB3464B3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F26518-5FEC-4D90-9780-DA7C08D4FF3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A884AC-A698-47A3-9BCF-2B254C860C1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3094DE-DE8B-42E3-A273-B67A90C6913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D81380-CB04-4739-AE48-EA4D483CD0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C61C4C-8D2E-4204-91FE-4FE901C7D77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CB03FF-E90E-46FE-84A3-F3D60C4E4AF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5430F5-533E-4570-A561-918A5E7E3A5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94DE17-EFF0-437B-A89F-1146CFDB592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B0B-00AF-4DCA-97AB-C74D80A8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DC6-E009-4085-AAE1-E08AEE91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AD6-D0C1-422B-B5AB-267D55EB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077-B732-42A5-977E-8F3A01A9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7452-4FF7-4F19-BE7F-96C45021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4A23-0CCF-4A14-9A0D-A9055BA7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67D3-C194-472E-A6DA-6A1016B9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309A-E01E-455D-A514-254698A8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A84B-157F-481F-8711-5E131FCF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7B3C-8262-41F5-A6FF-D3FA9853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4569-0B45-4A98-A41C-2549769A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E19-5A0B-4540-83B2-25399265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9583-22D5-43A3-B827-00BBDD87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BC4D-C06C-4848-8240-80536306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5844-71B5-400B-9BCB-AA058929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C79D-3731-4673-9CDB-8A57DBAC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5D6F-0471-4984-9B73-F6AA26A2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1AC-23DF-47E5-8806-741FC077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CBB-D645-4C99-8019-6F07945C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7DA-C9DB-4C28-B5B7-11EB59E9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A57-628F-4D3F-8CF7-0CC2BC64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7D0-DF44-4C36-B042-45FFDDC0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128-596E-48E6-B1D5-7E1FB4D2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F56-3DBC-4119-B8C1-D8B53CBB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63C6F84-5043-4B52-8391-2599E3771709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078B3E-5EF0-4FCB-B50C-44CA4E398E1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en-US" sz="2000" spc="248" strike="noStrike" cap="all">
                <a:solidFill>
                  <a:srgbClr val="646b86"/>
                </a:solidFill>
                <a:latin typeface="Georgia"/>
              </a:rPr>
              <a:t>The Role of Epidemiology in Reducing Health Disp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Epidemiology, Policy, and Racial/Ethnic Minority Health Disparities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133720" y="6324480"/>
            <a:ext cx="69339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Carter-Pokras, O. D., Offutt-Powell, T. N., Kaufman, J. S., Giles, W. H., &amp; Mays, V. M. (2012). Epidemiology, Policy, and Racial/Ethnic Minority Health Disparities. </a:t>
            </a:r>
            <a:r>
              <a:rPr b="0" i="1" lang="en-US" sz="1100" spc="-1" strike="noStrike">
                <a:solidFill>
                  <a:srgbClr val="000000"/>
                </a:solidFill>
                <a:latin typeface="Georgia"/>
              </a:rPr>
              <a:t>Annals of Epidemiology, 22(6), 446-45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Housing and Asthm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gram Challeng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riticism of medical center projec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mmunities haven’t mounted programs related to survey finding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udget crises and loss of funding have affected sustainabil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Questions about generalizabil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aluation Challeng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imited funding for evaluation and dissemin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ifficulty in discerning the impact of specific components of multilevel interven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mmunities reject “usual care” comparison group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Housing and Asthm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neede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ducation and training integrating community involvement, evaluation of community interventions, qualitative and mixed methods, and analytic techniqu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eparation to address questions about generalizablity and sustainabil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ntextualization of interventions to different setting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tailed information on the content and context of interven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38412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Food Policy Strategies to Reduce Health Disparitie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equal distribution of healthy foods: a contextual issue identified through epidemiologic da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reasing Access to Health Foo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centives for convenience and corner stores to sell fresh fruits and vegetabl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oans and zoning ordinances to promote large grocery stores, farmers markets, and corner sto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harlotte, North Carolin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773640" indent="-21456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Zoning change allowed a farmers market on the grounds of the county health departm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773640" indent="-21456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om 2001-2005, fruit and vegetable consumption among African-Americans in Charlotte increased from 23.1% to 25.3%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773640" indent="-21456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te-wide, fruit vegetable consumption decreased from 21.7% to 17.5%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38412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Food Policy Strategies to Reduce Health Disparitie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creasing Access to Unhealthy Foo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27400" indent="-2635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outh Los Angeles, Californi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791640" indent="-219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la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5520" indent="-219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2-year moratorium on new fast food restaura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55520" indent="-219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Development and implementation of a plan to attract grocery stores and health food op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791640" indent="-219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ult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55520" indent="-219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mall stores began selling fruits and veget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55520" indent="-219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armers markets starting accepting WIC check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55520" indent="-219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upermarkets opened in 201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55520" indent="-219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LA municipal code amended to limit new fast food restaurants from opening within half a mile of existing fast food restaura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27400" indent="-2635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Zoning restrictions on fast food restaurants within 3 km of low-income residents reduced fast food consumption (Coronary Artery Risk Development in Young Adults study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38412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Food Policy Strategies to Reduce Health Disparitie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od policies, especially jurisdiction-wide policies, should be effective in reducing health dispari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8560" indent="-2685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fferential barriers to adoption, implementation, or enforcement can inadvertently exacerbate health dispari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7480" indent="-2685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acial and ethnic disparities remain in access to folate-rich foods despite 1988 FDA requirement of folic acid enrichment in cereal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8560" indent="-2685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gration of a health disparities assessment into policy planning and implementation can prevent disparity exacerb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lusions: Dilemmas in Health Disparitie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complexity of health disparities demands innovation in methodological and statistical approach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are unique challenges in the translation of findings into policy since interventions often involve changes outside the health care enterpris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ciding which differences in health are unnecessary, preventable, and unjust requires going beyond scientific evidence to ideology, values, and political perspectiv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lusions: The Policy Cyc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72520" indent="-2725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ve Key Steps of the Policy Cycle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27200" indent="-45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sessment of population healt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27200" indent="-45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sessment of potential interven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27200" indent="-45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icy choic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27200" indent="-45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icy implement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727200" indent="-45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Georgia"/>
              <a:buAutoNum type="arabicPeriod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icy evalu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87280" indent="-2872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pidemiology has demonstrated important contributions to step 1, but less to steps 2-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87280" indent="-2872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pidemiologists must embrace evaluation and dissemin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59800" indent="-287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gin planning for evaluation and dissemination at the beginning of the proces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59800" indent="-287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ek funding to support evaluation and dissemin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7010280" y="6367680"/>
            <a:ext cx="19807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Adapted from Spasoff 19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Should Epidemiologists Be Involved?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all epidemiologists stop short of helping to affect policy, then the voice of science will be lost from making decisions that most affect the health of the public.” (1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bioethical principal of beneficence provides moral justification for advoc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276720" y="6324480"/>
            <a:ext cx="571464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(1) Brownson RC, Hartge P, Samet JM, Ness RB. From epidemiology to policy: toward more effective practice. Ann Epidemiol. 2010;20:409–41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4 Phases of Health Disparities Research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ntification of the nature and extent of dispari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ntification of underlying factors for racial, ethnic, and socioeconomic dispari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ment and implementation of interven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xed-methods evaluation of comprehensive, multi-level interven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38412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oretical Framework for Causal Effects of Policie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pulation-level policies lead to individual-level effects measured at the aggregate leve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founders are probable and must be identifie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causal diagram helps to establish whe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actors are affected by the policy, o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actors are determinants of policy implement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38412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ausal Diagram: Factors Influencing Childhood Asthma Exacerbation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Content Placeholder 3" descr="Figure 1.jpg"/>
          <p:cNvPicPr/>
          <p:nvPr/>
        </p:nvPicPr>
        <p:blipFill>
          <a:blip r:embed="rId1"/>
          <a:stretch/>
        </p:blipFill>
        <p:spPr>
          <a:xfrm>
            <a:off x="1007640" y="2362320"/>
            <a:ext cx="7128360" cy="37764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914400" y="1600200"/>
            <a:ext cx="731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ince the policy is exogenous, no factors should be adjusted for in the statistical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412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Role of Epidemiology in Definition and Measurement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jor role for epidemiology: definition, classification, and measure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3160" indent="-2631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osure Measure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26680" indent="-2631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finement of conceptually valid and practically implementable measures of racism, segregation, inequality, educational attainment, etc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3160" indent="-2631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utcome Classifi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26680" indent="-2631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isparities assessment now encompasses a wide variety of measur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6680" indent="-2631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ach has unique advantages in addressing absolute or relative comparisons and scaling of the dimension over which outcomes are contraste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38412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Role of Epidemiology in Definition and Measurement: Neighborhood Quality Indice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Connecticut Association of Directors of Health’s Health Equity Inde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sesses numerous domai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Used in policy evaluations to assess community change from interventions and polic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ew Zealand’s Social Reports (Te Purongo Oranga Tangata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Used by government agencies to monitor social progress in health disparit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ave raised awareness and stimulated action to address the social determinants of health and improve health equ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Housing and Asthm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thma disproportionately affects minority and disadvantaged childr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vironmental conditions in the home can exacerbate asthma sympto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acial and ethnic minority and low-income children are more likely to live in substandard hous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me-based multi-trigger, multi-component interventions with an environmental focus are recommended for children and adolescents (by the Task Force on Community Preventive Service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: Housing and Asthma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ample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ing County Department of Public Health’s Health Homes Projec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inai Health Systems’ (Chicago) Sinai Model for Reducing Health Disparities and Improving Health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mon Components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mmunity needs assessme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alysis of resul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mplementation of programs in the commun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valuation of interventio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230</TotalTime>
  <Application>LibreOffice/7.4.7.2$Linux_X86_64 LibreOffice_project/40$Build-2</Application>
  <AppVersion>15.0000</AppVersion>
  <Words>1117</Words>
  <Paragraphs>122</Paragraphs>
  <Company>Washington University in St. Loui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5:21:52Z</dcterms:created>
  <dc:creator>Wes Gibbert</dc:creator>
  <dc:description/>
  <dc:language>en-US</dc:language>
  <cp:lastModifiedBy>Peter Kralka</cp:lastModifiedBy>
  <dcterms:modified xsi:type="dcterms:W3CDTF">2013-03-14T14:35:59Z</dcterms:modified>
  <cp:revision>39</cp:revision>
  <dc:subject/>
  <dc:title>Epidemiology, Policy, and Racial/Ethnic Minority Health Dispar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6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