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gif" ContentType="image/gi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E4D9FC-B460-412C-B0C4-5E7AD6BF3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C7B065-B1F2-4C3C-AB96-52DD548B5A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104A6F-13E2-4E60-8D5E-FE21F1BC9E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C9B6D5-5349-474C-B46D-DE65DB511CF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F6A75A-6BC0-469C-984F-C5CBD4F4F0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9A5A60-7982-4A1F-A822-CFC0910F4E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EE31F8-B799-49A1-A60B-4A23EF953D3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7D2FF0-A2F3-4FE5-B4C7-2E47CF10C3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A2EC05-FFF2-4A76-A25E-FC28166599D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00E499-39BE-4D96-A90A-95E8988EE31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18F0EF-51D9-482E-A31D-41907E07F0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CC7F95-F979-4D8B-A2AA-BFA3ED983D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856F7-EF22-4794-9894-1E14CF9909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AED3B1-BB9F-42B8-9EAF-6DDB633C7B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A34C1D-E8F9-457C-AE74-7FCCA8C12F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3AF8C-E5E8-4D0B-891E-738D71310D2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A13391-2A55-4484-BAA5-3446736F99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5B53ED-A9BD-4635-8FF0-5E089A6C78E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4A2-8386-4A1C-B33F-06C64BE3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B44-C37D-4B62-A73C-75672EC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B39-7651-49E3-9340-2A49E1E8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EBA-51C7-4648-8DCF-250E5B7C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2FCB-9880-4FD1-AEF1-F1BB93EC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27B-4A96-429A-A0DF-6EC05447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FDFD-CCBD-4D43-8202-76CA6CD4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5B5C-4E34-4527-B343-0CB901C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B4F-6200-43D0-BCDF-12F3C673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0104-B6D1-49D2-AB5C-65795D0F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B39A-ACC6-4F02-ACA4-694C86E1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DE4-114C-44CF-AA08-AAB7560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727E-5745-49C3-B370-61D323E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9B41-B88F-4D34-BABC-22DB09C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0D14-B1BF-4657-A5CE-5DEAEEB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F403-A0B2-4A7D-91A6-F9160EC5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200F-8EF5-4E97-ADA1-04479671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71F-CB29-4DAE-B4F6-538B11C5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833-E613-400A-8520-FB2AA4E8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A9F-0126-422D-8756-09606E81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A36-965F-4D4B-BB9E-2DCA14A3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2BB-89A3-4B8C-8461-4FE8ED6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712-5768-4E07-8DA3-9768977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001-C1EE-4477-B0F8-32439A5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E473A5-3704-43BE-9F26-54CC0D474D73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4D2B46-A758-4264-A729-CEB5F9B76A0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248" strike="noStrike" cap="all">
                <a:solidFill>
                  <a:srgbClr val="646b86"/>
                </a:solidFill>
                <a:latin typeface="Georgia"/>
              </a:rPr>
              <a:t>The Journey from Epidemiology to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Georgia"/>
              </a:rPr>
              <a:t>Cancer Screening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TextBox 3"/>
          <p:cNvSpPr/>
          <p:nvPr/>
        </p:nvSpPr>
        <p:spPr>
          <a:xfrm flipH="1">
            <a:off x="1294560" y="6350760"/>
            <a:ext cx="76957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Deppen, S. A., M. C. Aldrich, P. Hartge, C.D. Berg, G.A. Colditz, D.B. Petitti, and R.A. Hatt. (2012). "Cancer Screening: The Journey from Epidemiology to Policy."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Georgia"/>
              </a:rPr>
              <a:t>Annals of Epidemiology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Georgia"/>
              </a:rPr>
              <a:t>22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Georgia"/>
              </a:rPr>
              <a:t>(6): 439-44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ung Cancer Screening: In the Car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2" name="Content Placeholder 3" descr=""/>
          <p:cNvPicPr/>
          <p:nvPr/>
        </p:nvPicPr>
        <p:blipFill>
          <a:blip r:embed="rId1"/>
          <a:stretch/>
        </p:blipFill>
        <p:spPr>
          <a:xfrm>
            <a:off x="1357920" y="1527120"/>
            <a:ext cx="639108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ung Cancer Screening: In the Car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y Hop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hest X-Ray and Sputum Cytolog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o improvements in mortality based on limited tri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1996: USPSTF recommends against chest x-ray and sputum cytolog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5" name="Picture 3" descr="Chest-X-ray.jpg"/>
          <p:cNvPicPr/>
          <p:nvPr/>
        </p:nvPicPr>
        <p:blipFill>
          <a:blip r:embed="rId1"/>
          <a:stretch/>
        </p:blipFill>
        <p:spPr>
          <a:xfrm>
            <a:off x="2819520" y="3475800"/>
            <a:ext cx="3504960" cy="32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ung Cancer Screening: In the Car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w-dose computed tomography (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ixed results in non-randomized stud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65000" indent="-2124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ome found increased surviv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765000" indent="-2124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thers showed no reduction in pathological stage or mortalit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rge randomized trial (National Lung Screening Trial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65000" indent="-2124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alted in November 2010 showing 20% reduction in mortalit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ung cancer requires invasive surgery at early stag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65000" indent="-2124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96.4% false positive rate in low dose CT arm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765000" indent="-2124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sts and consequences of false-positives remain unknow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PSTF 2004 recommendations conclude insufficient evid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PSTF 2013 recommendations under revie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y Screening Study Can Have Policy Implica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PSTF reviews can pull in any stud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unicate Results and Inform Poli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dia allows only one opportunity to deliver a message effective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cation planning must include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of research result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sis for recommendation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lications for funding agencies, coalition members, and oth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concerns and questions from politicians, policy makers, and other stakeholder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p the Scientific, Cultural, Political, and Policy Terr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 example: many people view lung cancer as an avoidable, self-inflicted diseas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s limits what resources policy makers will be willing to dedicate to lung cance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2" name="Picture 3" descr="surveyor.gif"/>
          <p:cNvPicPr/>
          <p:nvPr/>
        </p:nvPicPr>
        <p:blipFill>
          <a:blip r:embed="rId1"/>
          <a:stretch/>
        </p:blipFill>
        <p:spPr>
          <a:xfrm>
            <a:off x="3238560" y="3526920"/>
            <a:ext cx="26665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now When to Get Help Communicating Results or Promoting Poli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 successful marketing or policy agenda is often not in the epidemiologist’s toolbox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5" name="Picture 3" descr="toolbox1.jpg"/>
          <p:cNvPicPr/>
          <p:nvPr/>
        </p:nvPicPr>
        <p:blipFill>
          <a:blip r:embed="rId1"/>
          <a:stretch/>
        </p:blipFill>
        <p:spPr>
          <a:xfrm>
            <a:off x="2552760" y="3302640"/>
            <a:ext cx="4038120" cy="27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eate Coalitions and Partnershi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akes desired outcome or intervention more likel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Prepared for Changes in Political Environment or Public Opin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alition members are often the first to be aware of chang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ing ready with data and compelling arguments can be just the right lever to move a policy agenda forwar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Picture 3" descr="community_hands.png"/>
          <p:cNvPicPr/>
          <p:nvPr/>
        </p:nvPicPr>
        <p:blipFill>
          <a:blip r:embed="rId1"/>
          <a:stretch/>
        </p:blipFill>
        <p:spPr>
          <a:xfrm>
            <a:off x="3372840" y="4572000"/>
            <a:ext cx="2398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y on Message, Know Your Ro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pidemiologists should only speak about their area of expertis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void speculation, comparisons without dat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im for simplicity and singularity of focu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3" descr="bullseye.jpg"/>
          <p:cNvPicPr/>
          <p:nvPr/>
        </p:nvPicPr>
        <p:blipFill>
          <a:blip r:embed="rId1"/>
          <a:stretch/>
        </p:blipFill>
        <p:spPr>
          <a:xfrm>
            <a:off x="3162240" y="3733920"/>
            <a:ext cx="281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ncer Screening from Evidence to Policy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357920" y="1527120"/>
            <a:ext cx="639108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ge 1: In the Car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443960" cy="4571640"/>
          </a:xfrm>
          <a:prstGeom prst="rect">
            <a:avLst/>
          </a:prstGeom>
          <a:ln w="0">
            <a:noFill/>
          </a:ln>
        </p:spPr>
      </p:pic>
      <p:sp>
        <p:nvSpPr>
          <p:cNvPr id="122" name="Content Placeholder 2"/>
          <p:cNvSpPr/>
          <p:nvPr/>
        </p:nvSpPr>
        <p:spPr>
          <a:xfrm>
            <a:off x="2014560" y="1523880"/>
            <a:ext cx="674784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reening procedures in early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itional role of epidemiologists as research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dings communicated primarily in the academic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other passengers on the jour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ge 2: On the Bu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09680" y="1527120"/>
            <a:ext cx="6595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re mature evidence of etiology and potential screening effectiven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9280" indent="-269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re complicated research (clinical trial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9280" indent="-269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pidemiologists take on broadened ro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9280" indent="-269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duct researc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9280" indent="-269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rve as consultants or content exper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39280" indent="-269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llate, codify, and communicate research results to the public or policy mak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9280" indent="-269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ny more participants in the journ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9280" indent="-269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luding participants from other field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71504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age 3: On the Trai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000520" cy="4571640"/>
          </a:xfrm>
          <a:prstGeom prst="rect">
            <a:avLst/>
          </a:prstGeom>
          <a:ln w="0">
            <a:noFill/>
          </a:ln>
        </p:spPr>
      </p:pic>
      <p:sp>
        <p:nvSpPr>
          <p:cNvPr id="128" name="Content Placeholder 2"/>
          <p:cNvSpPr/>
          <p:nvPr/>
        </p:nvSpPr>
        <p:spPr>
          <a:xfrm>
            <a:off x="2362320" y="1527120"/>
            <a:ext cx="644328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541"/>
              </a:spcBef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2362320" y="1527120"/>
            <a:ext cx="644328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ture scientific and policy enviro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mental changes require large stud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pidemiologist is one among many discipli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tinue previous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lso act as a spokesperson for policy or scientific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journey is now being made by a multitu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bate has shifted into the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reast Cancer Screening: On the Train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1" name="Content Placeholder 3" descr=""/>
          <p:cNvPicPr/>
          <p:nvPr/>
        </p:nvPicPr>
        <p:blipFill>
          <a:blip r:embed="rId1"/>
          <a:stretch/>
        </p:blipFill>
        <p:spPr>
          <a:xfrm>
            <a:off x="1357920" y="1527120"/>
            <a:ext cx="639108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reast Cancer Screening: On the Train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989: First USPSTF Breast Cancer Screening Guideline: Screening for women aged 50 every 1 to 2 yea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996: USPSTF gives screening for women aged 40 to 49 a C grade (insufficient evidenc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1: USPSTF upgrades screening for women aged 40 to 40 to a B grade (moderate benefi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reast Cancer Screening: On the Train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9: USPSTF downgrades screening before age 50 to a C grade (insufficient evidenc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iden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ignificant over-diagnosis, especially among younger wome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iennial screening is as effective as annual scree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c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scribed as a step backward by advoca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pecifically contradicted in the PPAC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reat Seal of the United States."/>
          <p:cNvPicPr/>
          <p:nvPr/>
        </p:nvPicPr>
        <p:blipFill>
          <a:blip r:embed="rId1"/>
          <a:stretch/>
        </p:blipFill>
        <p:spPr>
          <a:xfrm>
            <a:off x="6934320" y="3744360"/>
            <a:ext cx="1826280" cy="1826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the USPSTF so important?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1020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dely accepted, robust process to review medical evid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PACA legislated that services the Task Force finds as having significant (A) or moderate (B) benefi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US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be covered by insura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04920" y="5417280"/>
            <a:ext cx="792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http://www.gpo.gov/fdsys/pkg/PLAW-11publ148/html/PLAW-111publ148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04920" y="5775840"/>
            <a:ext cx="7365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http://www.uspreventiveservicestaskforce.org/uspstf/uspsabrec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361</TotalTime>
  <Application>LibreOffice/7.4.7.2$Linux_X86_64 LibreOffice_project/40$Build-2</Application>
  <AppVersion>15.0000</AppVersion>
  <Words>784</Words>
  <Paragraphs>111</Paragraphs>
  <Company>Saint Louis Universit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10:42Z</dcterms:created>
  <dc:creator>Wes Gibbert</dc:creator>
  <dc:description/>
  <dc:language>en-US</dc:language>
  <cp:lastModifiedBy>Peter Kralka</cp:lastModifiedBy>
  <dcterms:modified xsi:type="dcterms:W3CDTF">2013-03-14T14:36:48Z</dcterms:modified>
  <cp:revision>32</cp:revision>
  <dc:subject/>
  <dc:title>Cancer Scree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7</vt:r8>
  </property>
  <property fmtid="{D5CDD505-2E9C-101B-9397-08002B2CF9AE}" pid="3" name="PresentationFormat">
    <vt:lpwstr>On-screen Show (4:3)</vt:lpwstr>
  </property>
  <property fmtid="{D5CDD505-2E9C-101B-9397-08002B2CF9AE}" pid="4" name="Slides">
    <vt:r8>17</vt:r8>
  </property>
</Properties>
</file>