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" ContentType="application/vnd.ms-excel"/>
  <Override PartName="/ppt/embeddings/oleObject1.doc" ContentType="application/msword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44C72C-B49C-4AF7-9BE7-DFAF84C53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6F6336-A11F-4720-A0AD-3C12337C831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1F6DD7-D48D-4A84-A8E2-711C2AA2C7F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0ABEAB-2530-4B3B-ABE7-7F5879EC06D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0B3872-E6D3-43FF-AED9-9397CE16347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D3DF05-54D3-4DD8-9305-A298F45AD58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09FCD0-559B-4AB4-BD7F-1BDF69F5A33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E1C481-2CFB-4971-B12A-2C2BCA7CEB9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AAF834-C223-459D-B341-82751ACFCB7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49ACEB-DDD0-417D-8B9A-43EB22BFBFE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12C6B7-8A61-475B-ACA9-E32C9710850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165746-30CF-4309-9C73-4D3158A1FF4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A3DEFE-F246-46C3-8165-80065364508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63C695-5DE3-449B-A532-E680B12E7C3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5234C2-813F-47D6-9C0F-F311E1DED29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D0FBB1-E7DC-462B-99F7-34AFD4C3C22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E2E060-91E4-48C2-88F5-80D472AF668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A0CF76-742B-4099-B8C4-71C0F53656D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B6F6F1-2585-4AA8-AD49-2FE31200D67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298F2F-8FE4-4F56-8827-CE53DF07647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B13B9A-50E5-4553-A1E0-10FFB98D3FB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364A61-DB3E-4C36-B4B1-8392303957E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211148-7548-4F66-AF66-ABCFE2C76F4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29F203-F06B-4E4B-B6C6-4E7CDFDDFAD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53A21D-3E13-4737-A3E7-E9779E04957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9A43A9-1385-4F17-8CD6-7B29259E1CE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8D968A-A6A2-4063-95D4-4AE0DFA6F57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16391F-102F-4AF0-A04F-917699983EE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AE054B-8181-4F1E-8F84-A380115FCC8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265653-308F-4D5F-A67B-BCE2CC0A040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2ECAF4-C6F0-4104-AFC3-266C8BBE447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BAD-AD58-4D84-B1A2-2C1A7943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85A-3F89-4D70-9940-91D4C966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7054-54D6-4942-951E-6918DDA2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002-A7EA-4045-AD40-9FE99C63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5730-AE40-45A9-ABB3-2C840E27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8353-9650-478D-8436-77E0BEAD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9F26-607F-422B-8CC0-A2E4720D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514F-0D62-4B77-851C-819C3B75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D44D-7DBE-4AEE-AC05-07CCA612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34D5-87DE-41CC-BB38-4D4AFC77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8B4D-924F-4B3A-8600-67A74323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9AE-869B-493C-82FA-56C7539F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6C41-8875-45F6-9ADA-FF82EBB5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0DE1-AE26-4B3B-B387-BE0D033A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BF53-AADD-44FC-8EEB-939D634B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E14F-191D-4507-86FC-7BE30EF3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7734-198C-4137-85CB-2DCA9E12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C634D-955A-469E-A715-813A28B3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6E54F-AEBD-4BD9-B216-8EF4AE8F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2FF3F-6FE0-4096-B531-698590F4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B0829-8C9A-49DE-91E3-6DE20BD5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12FFF-C666-46AB-96AE-CD853436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930F-2EBD-4557-B9B2-6F0D0799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3C45D-185A-40C3-9253-612E27B5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2596B-9076-4D11-BAF6-59ABBCCE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B27AB-6FF3-4428-904B-BC0F5501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63831-7663-4AB5-85F6-94743149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E04C8-003A-4102-BDC5-0D1776C6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C7615-A8FF-4E4B-BAE0-4A2BE405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0A58A-9644-45EF-BA8A-4F55FC79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0C7DA-0B67-4FE4-BB7B-32C0F2FB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B9995-746F-40A5-A4FD-95621B9F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35E58-82CF-4ADB-AF13-396470FB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A105-F2AC-465F-9DC1-CFC4577F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CF221-1E45-4EC2-883C-85CEDC6A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B9B0C-E26A-4A05-BC89-4B1FA3F9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86FB4-61AE-45BB-A118-3A41E241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05560-5CA0-42F7-A1A7-8EB70FC9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BCA24-7618-4938-8311-C9FD70C5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8FEC1-22D3-4A55-BAB6-98AF9E0D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28100-63DB-4A61-ACA6-E5FF3E12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40929-4873-4C77-B63D-CF3D8194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CE756-D422-4376-90E5-2D5EFE7A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3B48F-A99F-44CF-8DAA-4662F99A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2E9-BD25-4706-A57A-4FA031B1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6D712-EA8C-4533-AF6F-A6DAE5DE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9988F-3265-4470-BEB4-ED8802B6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BB4FC-78EA-4680-AF99-9539C375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93A1F-F33B-4DCF-9B6A-7AD64D3F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07D49-100E-40CE-BF4C-494F3657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F0614-79CB-4257-BD7D-ED0D1320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5D4F7-A773-45BB-944D-DCAF8AA6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8F29D-76C7-45DC-8825-40C0BCC8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9FDA2-BB04-4ACB-A780-F754FC38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811D1-0B68-4D10-8E41-54A4483F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A0A-315F-4C9E-97C5-23515377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58CA1-0ECD-4A2B-B5BD-6DDDA6F0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10BD-6BDE-48CC-AFB5-7A090209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FE3-27A8-44F1-8AEB-68B282A4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4FA-D9C7-45BA-A191-27928BB7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Rectangle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Straight Connector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Rectangle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Oval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Oval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DD627D0-87ED-4CEC-A2E2-84EE7D415189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chemeClr val="accent1"/>
                </a:solidFill>
                <a:latin typeface="Georgia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Ova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E87A387-A945-44D2-A5DE-A14A3052BBE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7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n-US" sz="1600" spc="248" strike="noStrike" cap="all">
                <a:solidFill>
                  <a:srgbClr val="646b86"/>
                </a:solidFill>
                <a:latin typeface="Georgia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7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8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traight Connector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6C30602-E477-4826-B2E5-BD6A8F560641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0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1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2"/>
          </p:nvPr>
        </p:nvSpPr>
        <p:spPr>
          <a:xfrm>
            <a:off x="4343400" y="103608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73ADA8D-7704-4669-88B0-01CBDA6C909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8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0"/>
            <a:ext cx="9143640" cy="1551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52280" y="15840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dt" idx="1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1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5"/>
          </p:nvPr>
        </p:nvSpPr>
        <p:spPr>
          <a:xfrm>
            <a:off x="4267080" y="6324480"/>
            <a:ext cx="60912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chemeClr val="accent3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CB2816C-0BEB-4219-A0D3-9B6BEEEE7F4A}" type="slidenum">
              <a:rPr b="0" lang="en-US" sz="1600" spc="-1" strike="noStrike">
                <a:solidFill>
                  <a:schemeClr val="accent3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n-US" sz="1600" spc="248" strike="noStrike" cap="all">
                <a:solidFill>
                  <a:srgbClr val="646b86"/>
                </a:solidFill>
                <a:latin typeface="Georgia"/>
              </a:rPr>
              <a:t>An International Case Study Characterizing the Role of Epidemiology in Surveillance and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chemeClr val="accent1"/>
                </a:solidFill>
                <a:latin typeface="Georgia"/>
              </a:rPr>
              <a:t>The Emerging HIV Epidemic on the Mexico-U.S. Border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1881000" y="6162840"/>
            <a:ext cx="71049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Strathdee, S. A., C. Magis-Rodriguez, V.M. Mays, R. Jimenez, and T.L. Patterson. (2012). "The Emerging HIV Epidemic on the Mexico-US Border: An international case study characterizing the role of epidemiology in surveillance and response."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Georgia"/>
              </a:rPr>
              <a:t>Annals of Epidemiology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Georgia"/>
              </a:rPr>
              <a:t>22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Georgia"/>
              </a:rPr>
              <a:t>(6): 426-438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n-US" sz="1600" spc="248" strike="noStrike" cap="all">
                <a:solidFill>
                  <a:srgbClr val="646b86"/>
                </a:solidFill>
                <a:latin typeface="Georgia"/>
              </a:rPr>
              <a:t>In the U.S. – Mexico Border Reg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HIV Risks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la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20920" indent="-2602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ifference in median incomes between the U.S. and Mexico is greater than any other two contiguous countri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0280" indent="-26028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rug Trafficking and Drug Us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20920" indent="-2602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llicit drug use in Mexico has increased along trafficking rout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20920" indent="-2602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1988: 17,000 Mexicans reported using heroin in the last year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20920" indent="-2602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1993: 30,000 Mexicans reported using heroin in the last year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20920" indent="-2602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ijuana and Ciudad Juarez have the highest number of illicit drug users in Mexico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20920" indent="-2602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hooting galleries are widespread in both citi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IV Risk in the U.S.-Mexico Border Region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3" descr="fig4"/>
          <p:cNvPicPr/>
          <p:nvPr/>
        </p:nvPicPr>
        <p:blipFill>
          <a:blip r:embed="rId1"/>
          <a:stretch/>
        </p:blipFill>
        <p:spPr>
          <a:xfrm>
            <a:off x="0" y="0"/>
            <a:ext cx="9143640" cy="7021080"/>
          </a:xfrm>
          <a:prstGeom prst="rect">
            <a:avLst/>
          </a:prstGeom>
          <a:ln w="9525">
            <a:noFill/>
          </a:ln>
        </p:spPr>
      </p:pic>
      <p:sp>
        <p:nvSpPr>
          <p:cNvPr id="309" name="Title 1"/>
          <p:cNvSpPr/>
          <p:nvPr/>
        </p:nvSpPr>
        <p:spPr>
          <a:xfrm>
            <a:off x="445680" y="72720"/>
            <a:ext cx="85341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Major U.S. Drug Trafficking Rout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IV Risk in the U.S.-Mexico Border Region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egal and Social Context of Sex Wor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10120" indent="-2548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x work is quasi-legal in Mexico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10120" indent="-2548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any FSWs are concentrated in </a:t>
            </a: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zona rojas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(red light districts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4880" indent="-25488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igration, Cross-border Mobility, and Deport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10120" indent="-2548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ijuana-San Diego is the busiest land border crossing in the world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10120" indent="-2548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ijuana and Ciudad Juarez are primary corridors for migrants and trucke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765000" indent="-2124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ruck routes have been identified as major corridors for HIV/STI transmissio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0120" indent="-2548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Undocumented persons are ineligible for healthcare in the U.S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10120" indent="-25488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eportees from the U.S. are often left at the border with not identification, possessions, or source of incom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34884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IV Risk in the U.S.-Mexico Border Region: Reasons for Moving to Tijuana by Gender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3" name="Picture 11" descr=""/>
          <p:cNvPicPr/>
          <p:nvPr/>
        </p:nvPicPr>
        <p:blipFill>
          <a:blip r:embed="rId1"/>
          <a:srcRect l="0" t="0" r="15360" b="0"/>
          <a:stretch/>
        </p:blipFill>
        <p:spPr>
          <a:xfrm>
            <a:off x="398520" y="1559880"/>
            <a:ext cx="8346960" cy="5297760"/>
          </a:xfrm>
          <a:prstGeom prst="rect">
            <a:avLst/>
          </a:prstGeom>
          <a:ln w="0">
            <a:noFill/>
          </a:ln>
        </p:spPr>
      </p:pic>
      <p:sp>
        <p:nvSpPr>
          <p:cNvPr id="314" name="TextBox 3"/>
          <p:cNvSpPr/>
          <p:nvPr/>
        </p:nvSpPr>
        <p:spPr>
          <a:xfrm>
            <a:off x="5337000" y="6444720"/>
            <a:ext cx="3518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trathdee et al, PLoS ON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IV Risk in the U.S.-Mexico Border Region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Role of Relig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he Catholic Church has thwarted efforts to distribute condom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cess to Sterile Syring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U.S. political opposition has contributed to low adoption of needle-exchange programs in Mexico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n-US" sz="1600" spc="248" strike="noStrike" cap="all">
                <a:solidFill>
                  <a:srgbClr val="646b86"/>
                </a:solidFill>
                <a:latin typeface="Georgia"/>
              </a:rPr>
              <a:t>Examining HIV Incidence and Risk Factors in the U.S. – Mexico Border Reg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Epidemiological Studies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pidemiological Studies: Pregnant Women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20" name="Object 2"/>
          <p:cNvGraphicFramePr/>
          <p:nvPr/>
        </p:nvGraphicFramePr>
        <p:xfrm>
          <a:off x="600120" y="1728000"/>
          <a:ext cx="7943400" cy="441936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3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1728000"/>
                    <a:ext cx="79434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Rectangle 5"/>
          <p:cNvSpPr/>
          <p:nvPr/>
        </p:nvSpPr>
        <p:spPr>
          <a:xfrm>
            <a:off x="5461560" y="6292440"/>
            <a:ext cx="3733560" cy="68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Sources: CENSIDA, CA State Office of AID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Viani et al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pidemiological Studies: Female Sex Worker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2% HIV prevalence among FSWs who are also IDU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1600200" y="2503080"/>
          <a:ext cx="5943240" cy="340632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03080"/>
                    <a:ext cx="5943240" cy="34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Text Box 7"/>
          <p:cNvSpPr/>
          <p:nvPr/>
        </p:nvSpPr>
        <p:spPr>
          <a:xfrm>
            <a:off x="6163560" y="6378120"/>
            <a:ext cx="2718720" cy="302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b-NO" sz="1400" spc="-1" strike="noStrike">
                <a:solidFill>
                  <a:srgbClr val="000000"/>
                </a:solidFill>
                <a:latin typeface="Georgia"/>
              </a:rPr>
              <a:t>Patterson et al, J Inf Dis (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pidemiological Studies: Injection nous Drug User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29" name="Group 3"/>
          <p:cNvGraphicFramePr/>
          <p:nvPr/>
        </p:nvGraphicFramePr>
        <p:xfrm>
          <a:off x="304920" y="2213640"/>
          <a:ext cx="8534160" cy="4327920"/>
        </p:xfrm>
        <a:graphic>
          <a:graphicData uri="http://schemas.openxmlformats.org/drawingml/2006/table">
            <a:tbl>
              <a:tblPr/>
              <a:tblGrid>
                <a:gridCol w="4383720"/>
                <a:gridCol w="1922040"/>
                <a:gridCol w="2228040"/>
              </a:tblGrid>
              <a:tr h="663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ds Ratio (Femal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ds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al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# of arrests for track marks (per 5 arres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yphi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# of different people usually injects with* (per 5 peop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years lived in Tijuana (per 10 year increas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or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Rectangle 2"/>
          <p:cNvSpPr/>
          <p:nvPr/>
        </p:nvSpPr>
        <p:spPr>
          <a:xfrm>
            <a:off x="228600" y="1122120"/>
            <a:ext cx="86864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ctors Independently Associated with HIV infection by Gender  (Strathdee et al, PLoS ONE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2"/>
          <p:cNvSpPr/>
          <p:nvPr/>
        </p:nvSpPr>
        <p:spPr>
          <a:xfrm>
            <a:off x="-59760" y="6366600"/>
            <a:ext cx="6667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*Adjusted for correlation between recruiters and recrui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1"/>
          <p:cNvSpPr/>
          <p:nvPr/>
        </p:nvSpPr>
        <p:spPr>
          <a:xfrm>
            <a:off x="7671960" y="6336720"/>
            <a:ext cx="1254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ll p&lt;0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kground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xico’s nationwide prevalence of HIV is among the lowest in the America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002: del Rio and Sepulveda conclude that Mexico has averted a major HIV epidemic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36036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3">
                    <a:lumMod val="75000"/>
                  </a:schemeClr>
                </a:solidFill>
                <a:latin typeface="Georgia"/>
              </a:rPr>
              <a:t>Factors associated with HIV among 620 FSW-IDUs in Tijuana and Cd. Juarez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34" name="Object 3"/>
          <p:cNvGraphicFramePr/>
          <p:nvPr/>
        </p:nvGraphicFramePr>
        <p:xfrm>
          <a:off x="393120" y="1500120"/>
          <a:ext cx="10688400" cy="535284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3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120" y="1500120"/>
                    <a:ext cx="1068840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Text Box 4"/>
          <p:cNvSpPr/>
          <p:nvPr/>
        </p:nvSpPr>
        <p:spPr>
          <a:xfrm>
            <a:off x="6021360" y="6459480"/>
            <a:ext cx="2814480" cy="287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(Strathdee et al,  PLoS ONE 2011)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1680" y="1479240"/>
            <a:ext cx="850356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505800" indent="-50580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Georgia"/>
              <a:buAutoNum type="arabicPeriod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HIV epidemic was no longer national, but had become regional sub-epidemic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05800" indent="-50580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Georgia"/>
              <a:buAutoNum type="arabicPeriod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uch higher than expected HIV prevalence among FSWs and female IDUs was in Tijuana and Ciudad Juarez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05800" indent="-50580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Georgia"/>
              <a:buAutoNum type="arabicPeriod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re is considerable overlap between communities engaged in sex work and drug u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05800" indent="-50580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Georgia"/>
              <a:buAutoNum type="arabicPeriod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impact of the HIV risk environment on individual-level  HIV risk behaviors can’t be ignor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05800" indent="-50580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Georgia"/>
              <a:buAutoNum type="arabicPeriod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responsibility for change should rest more on the shoulders of policy makers and program planners than on individua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301680" y="32436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pidemiological Studies: Challenging Assumptions about HIV in Mexico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n-US" sz="1600" spc="248" strike="noStrike" cap="all">
                <a:solidFill>
                  <a:srgbClr val="646b86"/>
                </a:solidFill>
                <a:latin typeface="Georgia"/>
              </a:rPr>
              <a:t>Leveraging data to Influence Polic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Epidemiology to Policy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336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pidemiology to Policy: Communication of Result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to generate thoughtful policy change without the U.S. or Mexico blaming each other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d epidemiological data to demonstrate the bi-directional mobility of at-risk populations across the bor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ndings prepared in Spanish and Englis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27400" indent="-2635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hared with municipal, state, and federal officials in Mexico before lifting the press embargo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27400" indent="-2635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sults released to press simultaneously in both countri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sented results and recommendations to Governor of Baja California and Mayor of San Diego in a joint mee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press can be a double-edge swor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2008 study of Male Clients of FSWs in Tijuana: US clients more likely than Mexican clients to select riskier FSWs who had infectious syphilis and were more likely to have unprotected sex for more money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i="1" lang="en-US" sz="2200" spc="-1" strike="noStrike">
                <a:solidFill>
                  <a:srgbClr val="646b86"/>
                </a:solidFill>
                <a:latin typeface="Georgia"/>
              </a:rPr>
              <a:t>San Diego Tribune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article accurately depicted the findings except for the headline: “Sex with Americans Risky for Mexican Hookers.”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Fallout with the communit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-Shows importance of cultural and gender sensitivity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301680" y="336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pidemiology to Policy: Communication of Result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pidemiology to Policy: Outcomes from Result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deral and state health officials in Mexico commissioned a fleet of mobile prevention vans modeled in part after a mobile van that was used to recruit participants for epidemiologic studie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ational guidelines supporting harm reduction (CENSIDA 2005) used data to justify needle exchange program (NEP) expansion in Mexic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y 2010, small scale NEPs were operating in 9 stat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pidemiology to Policy: Outcomes from Result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dentification of research questions of interest to both the U.S. and Mexic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ed to funding from the National Institute on Drug Abuse (NIDA), the National Institute of Mental Health focusing on social, environmental, and behavioral facto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IDA funds also awarded to study drug policy reform deregulating small amounts of a variety of drug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w laws are designed to redirect law enforcement to drug dealers and trafficke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pidemiology to Policy: Outcomes from Result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009: Mexico received funds from the Global Fund for HIV, TB and Malaria for the first ti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pidemiological data demonstrated that HIV prevalence had surpassed the 5% in one risk group required for funding eligibilit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ncouraging bi-national partnership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creased funding from a variety of groups for training programs developing research skills and programmatic capacity building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imed at U.S. and Mexican students who train together side by side and learn from one another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1600" spc="248" strike="noStrike" cap="all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Lessons Learned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ssons Learned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liance on HIV/AIDS surveillance data can mask emerging regional tren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mple epidemiologic data can generate powerful respon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arge-scale studies (i.e. longitudinal cohort studies) are not always necessar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escriptive data (estimates of HIV prevalence, incidence, and associated risk behaviors) can sometimes be sufficient to generate important policy outcom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kground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88" name="Object 2"/>
          <p:cNvGraphicFramePr/>
          <p:nvPr/>
        </p:nvGraphicFramePr>
        <p:xfrm>
          <a:off x="1503360" y="1352520"/>
          <a:ext cx="6136920" cy="550512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2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3360" y="1352520"/>
                    <a:ext cx="6136920" cy="55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Picture 4" descr="MexicoNeighborsHIVprev06"/>
          <p:cNvPicPr/>
          <p:nvPr/>
        </p:nvPicPr>
        <p:blipFill>
          <a:blip r:embed="rId3"/>
          <a:srcRect l="9729" t="13999" r="7546" b="38708"/>
          <a:stretch/>
        </p:blipFill>
        <p:spPr>
          <a:xfrm>
            <a:off x="3726000" y="4246560"/>
            <a:ext cx="3664440" cy="1618560"/>
          </a:xfrm>
          <a:prstGeom prst="rect">
            <a:avLst/>
          </a:prstGeom>
          <a:ln w="9525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ssons Learned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importance of risk environ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2880" indent="-271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 this case, environmental factors appeared to be more important than individual level risk facto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2880" indent="-271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his epidemiologic data were used to shift responsibility towards governments and policy makers and away from individual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1440" indent="-27144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bilizing key stakeholders is critical for generating timely policy respon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2880" indent="-271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volvement of policy makers and partners from inception is critica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2880" indent="-2714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 this case, the involvement of both Mexican and American researchers, health officials, NGOs, etc were key to achieving policy chang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kground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ing national and regional data can mask dynamic subepidemic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specially vulnerable populations that underuse HIV testing and treatment servic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s case will contrast Mexico’s national and state-level HIV epidemic profile with two northern Mexican cities (Tijuana and Ciudad Juarez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n-US" sz="1600" spc="248" strike="noStrike" cap="all">
                <a:solidFill>
                  <a:srgbClr val="646b86"/>
                </a:solidFill>
                <a:latin typeface="Georgia"/>
              </a:rPr>
              <a:t>Risk Environmen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Conceptual Framework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ceptual Framework: Risk Environment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V risk environment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he social or physical space in which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he interplay of factors exogenous to the individual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creases their likelihood of engaging in risky behaviors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(Rhodes et al, Soc Sci Med 2005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n be categorized by typ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hysica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ocia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conomic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lic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298" name="Picture 4" descr="Figure1_Heuristic Framework_April_14_2008_Black"/>
          <p:cNvPicPr/>
          <p:nvPr/>
        </p:nvPicPr>
        <p:blipFill>
          <a:blip r:embed="rId1"/>
          <a:stretch/>
        </p:blipFill>
        <p:spPr>
          <a:xfrm>
            <a:off x="100800" y="0"/>
            <a:ext cx="8942040" cy="6857640"/>
          </a:xfrm>
          <a:prstGeom prst="rect">
            <a:avLst/>
          </a:prstGeom>
          <a:ln w="9525">
            <a:noFill/>
          </a:ln>
        </p:spPr>
      </p:pic>
      <p:sp>
        <p:nvSpPr>
          <p:cNvPr id="299" name="TextBox 3"/>
          <p:cNvSpPr/>
          <p:nvPr/>
        </p:nvSpPr>
        <p:spPr>
          <a:xfrm>
            <a:off x="6459480" y="6488640"/>
            <a:ext cx="262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oundstone et a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ceptual Framework: Implication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V prevention is not merely of function of an individual’s behavi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t is also a function of social, economic and policy environment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ehavior change is also the responsibility of governments and policy make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V infections do not occur randomly within a population, and are prone to cluster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isk factors do not individually create risks for HIV infect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lustering of risk factors creates vulnerabilit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34848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ceptual Framework: HIV Risk in the Mexico-U.S. Border Region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3" name="Picture 5" descr="figure 1.png"/>
          <p:cNvPicPr/>
          <p:nvPr/>
        </p:nvPicPr>
        <p:blipFill>
          <a:blip r:embed="rId1"/>
          <a:stretch/>
        </p:blipFill>
        <p:spPr>
          <a:xfrm>
            <a:off x="0" y="1432440"/>
            <a:ext cx="9143640" cy="535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.thmx</Template>
  <TotalTime>390</TotalTime>
  <Application>LibreOffice/7.4.7.2$Linux_X86_64 LibreOffice_project/40$Build-2</Application>
  <AppVersion>15.0000</AppVersion>
  <Words>1471</Words>
  <Paragraphs>1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6:18:01Z</dcterms:created>
  <dc:creator>Wesley Gibbert</dc:creator>
  <dc:description/>
  <dc:language>en-US</dc:language>
  <cp:lastModifiedBy>Peter Kralka</cp:lastModifiedBy>
  <dcterms:modified xsi:type="dcterms:W3CDTF">2013-03-14T15:28:38Z</dcterms:modified>
  <cp:revision>59</cp:revision>
  <dc:subject/>
  <dc:title>The Emerging HIV Epidemic on the Mexico-U.S. Bord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0</vt:r8>
  </property>
  <property fmtid="{D5CDD505-2E9C-101B-9397-08002B2CF9AE}" pid="3" name="PresentationFormat">
    <vt:lpwstr>On-screen Show (4:3)</vt:lpwstr>
  </property>
  <property fmtid="{D5CDD505-2E9C-101B-9397-08002B2CF9AE}" pid="4" name="Slides">
    <vt:r8>30</vt:r8>
  </property>
</Properties>
</file>